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6162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BBF-54DE-4399-A7BE-0610F7C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68580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62920"/>
            <a:ext cx="68580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2A5-722E-4DDA-A740-327EE73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6292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6292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16A-A0ED-4748-B9A0-11806492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3820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3820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6292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6292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62920"/>
            <a:ext cx="2207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CD9-8085-40B0-BF18-2DF51239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38200"/>
            <a:ext cx="68580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02C-34DD-4E01-AA07-BB3F4D40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68580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096-4B05-42F0-BEAF-566579D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33465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38200"/>
            <a:ext cx="33465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DD4-D591-4C8F-9089-A6C80947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055-8D98-4492-83F8-A0AEFEE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5880"/>
            <a:ext cx="68580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4F6-3AFA-428B-A833-55F62839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38200"/>
            <a:ext cx="33465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6292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FAA-0C9E-4565-9E4D-FCD5F92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33465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6292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A8B-47AE-4386-AFCB-775A744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38200"/>
            <a:ext cx="33465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62920"/>
            <a:ext cx="68580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E23-785E-4B18-907D-BB96819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5880"/>
            <a:ext cx="68580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38200"/>
            <a:ext cx="68580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11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1132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11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48CE-6467-4040-88B9-882CAE68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840" y="1080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 COSTI DI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384120"/>
            <a:ext cx="27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Remunerazione dei fattori produ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6240" y="1708200"/>
            <a:ext cx="102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I costi fis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90400" y="1447560"/>
            <a:ext cx="0" cy="4257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440" y="5219640"/>
            <a:ext cx="682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448160"/>
            <a:ext cx="6153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1308240"/>
            <a:ext cx="4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1520" y="5365800"/>
            <a:ext cx="39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00" y="5280120"/>
            <a:ext cx="35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03320" y="974880"/>
            <a:ext cx="43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La divisione tra costi fissi e variabili dipe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ll’orizzonte temporale preso in consider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99080" y="2031840"/>
            <a:ext cx="2450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ndamento della funzione dei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sti fis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è quello di una linea retta parallela all’asse delle ascisse, a dimostrazione dell’indipendenza di tali costi dal livello di prod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480" y="324000"/>
            <a:ext cx="7345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9360" y="219240"/>
            <a:ext cx="73674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42920" y="361800"/>
            <a:ext cx="73278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0160" y="162000"/>
            <a:ext cx="7205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4760" y="200160"/>
            <a:ext cx="7383600" cy="52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0560" y="2933640"/>
            <a:ext cx="5888160" cy="2370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62320" y="4162320"/>
            <a:ext cx="0" cy="1095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5308560"/>
            <a:ext cx="35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70800" y="5365800"/>
            <a:ext cx="39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080" y="142236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040" y="5267160"/>
            <a:ext cx="652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90560" y="92340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3360" y="60480"/>
            <a:ext cx="159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I costi variabi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3560" y="5327640"/>
            <a:ext cx="41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70120" y="431640"/>
            <a:ext cx="39369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 funzione dei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osti variabil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ece essendo dipendente dal livello di produzione, e dal momento che livelli di produzione più elevati implicano maggiori quantità di fattori produttivi, avrà un andamento crescent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le andamento riflette la legge dei rendimenti decrescenti : nelle fasi iniziali della produzione  i costi variabili saranno crescenti ma in misura meno che proporzionale, oltre un certo livello, cessata la fase della produttività crescente, i costi aumenteranno in misura più che proporzion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09800" y="2328840"/>
            <a:ext cx="5300640" cy="212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6560" y="5137200"/>
            <a:ext cx="35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70800" y="5146560"/>
            <a:ext cx="39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720" y="14605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6440" y="5100480"/>
            <a:ext cx="613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04760" y="15616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00080" y="4429080"/>
            <a:ext cx="578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7920" y="250920"/>
            <a:ext cx="13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 costi to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1920" y="5184720"/>
            <a:ext cx="41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7200" y="3429000"/>
            <a:ext cx="0" cy="1647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8400" y="689040"/>
            <a:ext cx="3765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 funzione dei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osti totali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composta da costi fissi e costi variabili, ha lo stesso andamento della funzione dei costi variabili, dunque è una curva crescente a tassi decrescenti fino a un certo livello di produzione, a tassi crescenti da quel punto in po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le funzione però non parte dall’origine degli assi, ma dal momento che tiene conto anche dei costi totali ma parte dall’intercetta pari all’ammontare del costo fis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700200" y="19047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1520" y="5443560"/>
            <a:ext cx="613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1840" y="180324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65880" y="5489640"/>
            <a:ext cx="39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5479920"/>
            <a:ext cx="35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9360" y="365040"/>
            <a:ext cx="14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l costo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4600" y="2347920"/>
            <a:ext cx="3502080" cy="2003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9040" y="679320"/>
            <a:ext cx="393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osto medi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è un costo sempre più piccolo all’aumentare della produzione dal momento che si ripartisce su un numero maggiore di unità di prodot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 un certo punto in poi il costo medio inizierà a crescere a causa delle diseconomie inter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l punto di minimo della funzione del CM sarà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93920" y="4365720"/>
            <a:ext cx="37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57360" y="2357280"/>
            <a:ext cx="3502080" cy="200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0280" y="17460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 costi margi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760" y="5489640"/>
            <a:ext cx="35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8640" y="5499000"/>
            <a:ext cx="39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4600" y="181296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4280" y="5452920"/>
            <a:ext cx="613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42960" y="19141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57200" y="2871720"/>
            <a:ext cx="2884680" cy="25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51520" y="227016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7600" y="2546280"/>
            <a:ext cx="64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3000" y="4394160"/>
            <a:ext cx="37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2040" y="536400"/>
            <a:ext cx="3937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costo margina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ncontra il costo medio nel punto in cui il costo medio assume il suo valore minimo. Detto punto è chiamato “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punto di fug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05040" y="3162240"/>
            <a:ext cx="3154320" cy="487440"/>
            <a:chOff x="905040" y="3162240"/>
            <a:chExt cx="3154320" cy="487440"/>
          </a:xfrm>
        </p:grpSpPr>
        <p:sp>
          <p:nvSpPr>
            <p:cNvPr id="95" name=""/>
            <p:cNvSpPr/>
            <p:nvPr/>
          </p:nvSpPr>
          <p:spPr>
            <a:xfrm>
              <a:off x="1257480" y="3352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86080" y="3343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61920" y="3181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95480" y="3171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6840" y="3171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3181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772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9440" y="31910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9556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848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5040" y="3333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47600" y="33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62080" y="33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252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90840" y="3352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00360" y="3352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38320" y="33526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940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168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3480" y="3438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3629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28880" y="3505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7620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4560" y="36291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236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0040" y="3505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9120" y="363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9560" y="3524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14520" y="3438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00360" y="36003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47720" y="3429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9720" y="348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52640" y="348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95560" y="3562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85840" y="3419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2160" y="3524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6920" y="3581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3240" y="3533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7080" y="3457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35622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1400" y="3638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028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43040" y="3162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85960" y="3286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320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7040" y="3400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3840" y="3409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7164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67200" y="3390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52720" y="3533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9040" y="35812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132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532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8520" y="363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3000" y="34862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329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3372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05120" y="3191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86240" y="3200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320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1960" y="3181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67200" y="3181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5288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91040" y="34005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62400" y="3343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19480" y="3495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9920" y="34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76520" y="3495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852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192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1000" y="32576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820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1880" y="34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4640" y="3629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63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32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089240" y="3670200"/>
            <a:ext cx="37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4560" y="3556080"/>
            <a:ext cx="37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560" y="2889360"/>
            <a:ext cx="35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0960" y="5203800"/>
            <a:ext cx="45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34040" y="2676600"/>
            <a:ext cx="0" cy="2523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7880" y="5203800"/>
            <a:ext cx="46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067200"/>
            <a:ext cx="0" cy="2104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98800" y="276552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7800" y="371484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17760" y="5175360"/>
            <a:ext cx="41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89720" y="2898720"/>
            <a:ext cx="37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47800" y="3067200"/>
            <a:ext cx="555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6880" y="2100240"/>
            <a:ext cx="3502080" cy="2003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4280" y="5232240"/>
            <a:ext cx="35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8160" y="5241960"/>
            <a:ext cx="39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4120" y="155592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3800" y="5195880"/>
            <a:ext cx="613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2480" y="16570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66720" y="2614680"/>
            <a:ext cx="2884680" cy="2533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61040" y="201312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37120" y="2289240"/>
            <a:ext cx="64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2520" y="4137120"/>
            <a:ext cx="37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0920" y="603360"/>
            <a:ext cx="20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mprese inframargi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mprese margi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mprese extramargi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480" y="343080"/>
            <a:ext cx="73785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480" y="200160"/>
            <a:ext cx="73054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1360" y="352440"/>
            <a:ext cx="72612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6:56:59Z</dcterms:created>
  <dc:creator>Giuseppe</dc:creator>
  <dc:description/>
  <dc:language>en-US</dc:language>
  <cp:lastModifiedBy>Giuseppe</cp:lastModifiedBy>
  <dcterms:modified xsi:type="dcterms:W3CDTF">2010-03-31T12:18:06Z</dcterms:modified>
  <cp:revision>4</cp:revision>
  <dc:subject/>
  <dc:title>Diapositiva 1</dc:title>
</cp:coreProperties>
</file>