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wmf" ContentType="image/x-wmf"/>
  <Override PartName="/ppt/media/image4.jpeg" ContentType="image/jpeg"/>
  <Override PartName="/ppt/media/image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46D62-A747-4F59-B4ED-BBA03FC54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BF4BE-826F-4696-8DC9-336FBDF28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50E2A-73CE-4593-B93A-4CA4B2BBF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D2EC6-310A-4A75-9D7A-426A2DF75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FA9B5-7673-43D2-A9D0-EA85CA239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296DF-1D0E-40C8-8A42-1BEE2F597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CB17F-9FEA-44EB-AF6F-A17AEA519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F8EF8-239D-425C-AE29-1E07C5430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85B61-B7E1-4B9A-B2A7-514D899A9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418AE-E899-4B65-B910-2AD4C6AF0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52CE4-7C97-4209-9E1C-0B1412666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B4279-EB53-4976-9B21-C99CBEF57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97600-A100-40AF-A28D-8DD44CF2C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63B65-0D38-4364-BC98-6506AE7C8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B6AD7-38D9-43DA-A199-771B20739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A4B59-ADEE-455E-ABC1-A81B51A8A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07DC8-8D4C-4963-92F8-F5527F1D9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D8740-19AC-4179-AFE7-916FB1C15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50A27-8ABE-4905-9001-FDF205855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6624C-6F68-4FC9-A7C4-ADAB3CC6E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B6C64-BF69-4939-B977-70654F7EA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8D89B-8228-47AF-9D11-F4B54DA56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F4251-CA75-4F77-AD05-8E6ADF5AC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D7BB7-2337-458E-AA47-6CBFCB64F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5c7c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0033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dd4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8f8f8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8f8f8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8f8f8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091CB-C0E2-4B58-B121-3A1A0BC3F69A}" type="slidenum">
              <a:rPr b="0" lang="en-US" sz="1200" spc="-1" strike="noStrike">
                <a:solidFill>
                  <a:srgbClr val="f8f8f8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8f8f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d1ddd4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8f8f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808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5c7c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0033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d1ddd4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8f8f8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8f8f8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8f8f8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17C95-A224-4867-A11F-CEF4A9EA6C7D}" type="slidenum">
              <a:rPr b="0" lang="en-US" sz="1200" spc="-1" strike="noStrike">
                <a:solidFill>
                  <a:srgbClr val="f8f8f8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d1ddd4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f8f8f8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8080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://www.education.fr/" TargetMode="External"/><Relationship Id="rId2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5c7c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520120" cy="170028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1ddd4"/>
                </a:solidFill>
                <a:latin typeface="Arial"/>
              </a:rPr>
              <a:t>L’insegnamento dell’economia in Europa</a:t>
            </a:r>
            <a:endParaRPr b="0" lang="en-US" sz="48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250920" y="1915920"/>
            <a:ext cx="5473440" cy="4089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Verdana"/>
              </a:rPr>
              <a:t>Quali modelli?</a:t>
            </a: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Verdana"/>
              </a:rPr>
              <a:t>Gran Bretagna</a:t>
            </a:r>
            <a:endParaRPr b="0" lang="en-US" sz="2400" spc="-1" strike="noStrike">
              <a:solidFill>
                <a:srgbClr val="f8f8f8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Verdana"/>
              </a:rPr>
              <a:t>Germania</a:t>
            </a:r>
            <a:endParaRPr b="0" lang="en-US" sz="2400" spc="-1" strike="noStrike">
              <a:solidFill>
                <a:srgbClr val="f8f8f8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Verdana"/>
              </a:rPr>
              <a:t>Francia </a:t>
            </a:r>
            <a:endParaRPr b="0" lang="en-US" sz="2400" spc="-1" strike="noStrike">
              <a:solidFill>
                <a:srgbClr val="f8f8f8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8f8f8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Verdana"/>
              </a:rPr>
              <a:t>Doris Valente</a:t>
            </a:r>
            <a:endParaRPr b="0" lang="en-US" sz="2400" spc="-1" strike="noStrike">
              <a:solidFill>
                <a:srgbClr val="f8f8f8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Verdana"/>
              </a:rPr>
              <a:t>SILSIS Milano, AEEE-Italia</a:t>
            </a:r>
            <a:endParaRPr b="0" lang="en-US" sz="1800" spc="-1" strike="noStrike">
              <a:solidFill>
                <a:srgbClr val="f8f8f8"/>
              </a:solidFill>
              <a:latin typeface="Verdan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6156360" y="2637000"/>
            <a:ext cx="1994040" cy="26650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5580000" y="5445000"/>
            <a:ext cx="302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8f8f8"/>
                </a:solidFill>
                <a:latin typeface="Verdana"/>
              </a:rPr>
              <a:t>Lycée Louis Le Grand, Paris</a:t>
            </a:r>
            <a:endParaRPr b="0" lang="en-US" sz="16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8686800" y="6324480"/>
            <a:ext cx="533520" cy="520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Doris Valente                              Silsis- Mi, AEEE-Italia 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5c7c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d1ddd4"/>
                </a:solidFill>
                <a:latin typeface="Arial"/>
              </a:rPr>
              <a:t>L’insegnamento dell’economia </a:t>
            </a:r>
            <a:br>
              <a:rPr sz="3400"/>
            </a:br>
            <a:r>
              <a:rPr b="1" lang="en-US" sz="3400" spc="-1" strike="noStrike">
                <a:solidFill>
                  <a:srgbClr val="d1ddd4"/>
                </a:solidFill>
                <a:latin typeface="Arial"/>
              </a:rPr>
              <a:t>Gran Bretagna</a:t>
            </a:r>
            <a:endParaRPr b="0" lang="en-US" sz="3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Verdana"/>
              </a:rPr>
              <a:t>Corsi </a:t>
            </a: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Verdana"/>
              </a:rPr>
              <a:t>Economia politica </a:t>
            </a: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Verdana"/>
              </a:rPr>
              <a:t>Economia aziendale</a:t>
            </a: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Verdana"/>
              </a:rPr>
              <a:t>Metodologie:</a:t>
            </a: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Verdana"/>
              </a:rPr>
              <a:t>Contatti con il mondo delle imprese</a:t>
            </a: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Verdana"/>
              </a:rPr>
              <a:t>Uso strumenti (grafici, diagrammi , tabelle dati)</a:t>
            </a: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Verdana"/>
              </a:rPr>
              <a:t>Approccio integrato</a:t>
            </a: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Verdana"/>
              </a:rPr>
              <a:t>Studio di casi             Uso TIC</a:t>
            </a: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ris Valente                              Silsis- Mi, AEEE-Italia 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5c7c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d1ddd4"/>
                </a:solidFill>
                <a:latin typeface="Arial"/>
              </a:rPr>
              <a:t>L’insegnamento dell’economia </a:t>
            </a:r>
            <a:br>
              <a:rPr sz="3400"/>
            </a:br>
            <a:r>
              <a:rPr b="1" lang="en-US" sz="3400" spc="-1" strike="noStrike">
                <a:solidFill>
                  <a:srgbClr val="d1ddd4"/>
                </a:solidFill>
                <a:latin typeface="Arial"/>
              </a:rPr>
              <a:t>Gran Bretagna</a:t>
            </a:r>
            <a:endParaRPr b="0" lang="en-US" sz="3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Verdana"/>
              </a:rPr>
              <a:t>Dal settembre 2002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Verdana"/>
              </a:rPr>
              <a:t>EDUCAZIONE CIVICA 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Verdana"/>
              </a:rPr>
              <a:t>è parte del 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Verdana"/>
              </a:rPr>
              <a:t>Curriculum nazionale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Verdana"/>
              </a:rPr>
              <a:t>Comprensione elementi di</a:t>
            </a: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f8f8f8"/>
                </a:solidFill>
                <a:latin typeface="Verdana"/>
              </a:rPr>
              <a:t>economia e economia aziendale</a:t>
            </a: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ris Valente                              Silsis- Mi, AEEE-Italia 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5c7c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d1ddd4"/>
                </a:solidFill>
                <a:latin typeface="Arial"/>
              </a:rPr>
              <a:t>sistema educativo francese</a:t>
            </a:r>
            <a:endParaRPr b="0" lang="en-US" sz="48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6851520" cy="453060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8f8f8"/>
                </a:solidFill>
                <a:latin typeface="Verdana"/>
              </a:rPr>
              <a:t>Lycée ES (Economique et Sociale)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f8f8f8"/>
                </a:solidFill>
                <a:latin typeface="Verdana"/>
              </a:rPr>
              <a:t>Scienze economiche e sociali SES</a:t>
            </a:r>
            <a:r>
              <a:rPr b="1" lang="it-IT" sz="2800" spc="-1" strike="noStrike">
                <a:solidFill>
                  <a:srgbClr val="f8f8f8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8f8f8"/>
                </a:solidFill>
                <a:latin typeface="Verdana"/>
              </a:rPr>
              <a:t>--------------------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8f8f8"/>
                </a:solidFill>
                <a:latin typeface="Verdana"/>
              </a:rPr>
              <a:t>Lycée STG (Sciences et Technologies de la gestion)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f8f8f8"/>
                </a:solidFill>
                <a:latin typeface="Verdana"/>
              </a:rPr>
              <a:t>Economie et droit</a:t>
            </a: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f8f8f8"/>
                </a:solidFill>
                <a:latin typeface="Verdana"/>
              </a:rPr>
              <a:t>Management – Communication</a:t>
            </a: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f8f8f8"/>
                </a:solidFill>
                <a:latin typeface="Verdana"/>
              </a:rPr>
              <a:t>Gestion - Mercatique</a:t>
            </a: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8610480" y="6324480"/>
            <a:ext cx="533520" cy="52092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7451640" y="3425760"/>
            <a:ext cx="1508040" cy="982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ris Valente                              Silsis- Mi, AEEE-Italia 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5c7c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f8f8"/>
                </a:solidFill>
                <a:latin typeface="Arial"/>
              </a:rPr>
              <a:t>Sistema scolastico in Francia</a:t>
            </a: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Verdana"/>
              </a:rPr>
              <a:t>percorso scolastico generalizzato 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Verdana"/>
              </a:rPr>
              <a:t>per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Verdana"/>
              </a:rPr>
              <a:t>tutti i ragazzi 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Verdana"/>
              </a:rPr>
              <a:t>età 6 - 16 anni</a:t>
            </a: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Verdana"/>
              </a:rPr>
              <a:t>Articolazione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Verdana"/>
              </a:rPr>
              <a:t>tre livelli 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Verdana"/>
              </a:rPr>
              <a:t>primario        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Verdana"/>
              </a:rPr>
              <a:t>secondario 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f8f8f8"/>
                </a:solidFill>
                <a:latin typeface="Verdana"/>
              </a:rPr>
              <a:t>superiore</a:t>
            </a:r>
            <a:r>
              <a:rPr b="1" lang="en-US" sz="2800" spc="-1" strike="noStrike">
                <a:solidFill>
                  <a:srgbClr val="f8f8f8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57" name=""/>
          <p:cNvSpPr/>
          <p:nvPr/>
        </p:nvSpPr>
        <p:spPr>
          <a:xfrm>
            <a:off x="2556000" y="3141720"/>
            <a:ext cx="0" cy="574560"/>
          </a:xfrm>
          <a:prstGeom prst="line">
            <a:avLst/>
          </a:prstGeom>
          <a:ln w="9360">
            <a:solidFill>
              <a:srgbClr val="f8f8f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484360" y="4941720"/>
            <a:ext cx="0" cy="503280"/>
          </a:xfrm>
          <a:prstGeom prst="line">
            <a:avLst/>
          </a:prstGeom>
          <a:ln w="9360">
            <a:solidFill>
              <a:srgbClr val="f8f8f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659640" y="3213000"/>
            <a:ext cx="0" cy="1079640"/>
          </a:xfrm>
          <a:prstGeom prst="line">
            <a:avLst/>
          </a:prstGeom>
          <a:ln w="9360">
            <a:solidFill>
              <a:srgbClr val="f8f8f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659640" y="2133720"/>
            <a:ext cx="0" cy="431640"/>
          </a:xfrm>
          <a:prstGeom prst="line">
            <a:avLst/>
          </a:prstGeom>
          <a:ln w="9360">
            <a:solidFill>
              <a:srgbClr val="f8f8f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8610480" y="6324480"/>
            <a:ext cx="533520" cy="5209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ris Valente                              Silsis- Mi, AEEE-Italia 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5c7c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38160">
            <a:solidFill>
              <a:srgbClr val="f8f8f8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8f8f8"/>
                </a:solidFill>
                <a:latin typeface="Verdana"/>
              </a:rPr>
              <a:t>Il sistema dei licei</a:t>
            </a:r>
            <a:endParaRPr b="0" lang="en-US" sz="40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686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>
                <a:solidFill>
                  <a:srgbClr val="f8f8f8"/>
                </a:solidFill>
                <a:latin typeface="Verdana"/>
              </a:rPr>
              <a:t>lycée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8f8f8"/>
                </a:solidFill>
                <a:latin typeface="Verdana"/>
              </a:rPr>
              <a:t>generalista</a:t>
            </a:r>
            <a:endParaRPr b="0" lang="en-US" sz="24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f8f8f8"/>
                </a:solidFill>
                <a:latin typeface="Verdana"/>
              </a:rPr>
              <a:t>                                </a:t>
            </a:r>
            <a:r>
              <a:rPr b="1" i="1" lang="it-IT" sz="2400" spc="-1" strike="noStrike">
                <a:solidFill>
                  <a:srgbClr val="f8f8f8"/>
                </a:solidFill>
                <a:latin typeface="Verdana"/>
              </a:rPr>
              <a:t>3 anni    baccalauréat</a:t>
            </a:r>
            <a:endParaRPr b="0" lang="en-US" sz="24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8f8f8"/>
                </a:solidFill>
                <a:latin typeface="Verdana"/>
              </a:rPr>
              <a:t>tecnologico</a:t>
            </a:r>
            <a:endParaRPr b="0" lang="en-US" sz="24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8f8f8"/>
                </a:solidFill>
                <a:latin typeface="Verdana"/>
              </a:rPr>
              <a:t>professionale                   1 anni   </a:t>
            </a:r>
            <a:r>
              <a:rPr b="1" i="1" lang="it-IT" sz="2400" spc="-1" strike="noStrike">
                <a:solidFill>
                  <a:srgbClr val="f8f8f8"/>
                </a:solidFill>
                <a:latin typeface="Verdana"/>
              </a:rPr>
              <a:t>CAP o BEP</a:t>
            </a:r>
            <a:endParaRPr b="0" lang="en-US" sz="24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f8f8f8"/>
                </a:solidFill>
                <a:latin typeface="Verdana"/>
              </a:rPr>
              <a:t>                                         </a:t>
            </a:r>
            <a:r>
              <a:rPr b="1" i="1" lang="it-IT" sz="2400" spc="-1" strike="noStrike">
                <a:solidFill>
                  <a:srgbClr val="f8f8f8"/>
                </a:solidFill>
                <a:latin typeface="Verdana"/>
              </a:rPr>
              <a:t>3 anni    baccalauréat</a:t>
            </a:r>
            <a:endParaRPr b="0" lang="en-US" sz="24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8f8f8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Verdan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8610480" y="6324480"/>
            <a:ext cx="533520" cy="52092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2627280" y="2852640"/>
            <a:ext cx="793800" cy="360360"/>
          </a:xfrm>
          <a:prstGeom prst="rightArrow">
            <a:avLst>
              <a:gd name="adj1" fmla="val 50000"/>
              <a:gd name="adj2" fmla="val 55070"/>
            </a:avLst>
          </a:prstGeom>
          <a:solidFill>
            <a:srgbClr val="33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771640" y="4437000"/>
            <a:ext cx="792360" cy="360360"/>
          </a:xfrm>
          <a:prstGeom prst="rightArrow">
            <a:avLst>
              <a:gd name="adj1" fmla="val 50000"/>
              <a:gd name="adj2" fmla="val 54970"/>
            </a:avLst>
          </a:prstGeom>
          <a:solidFill>
            <a:srgbClr val="33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268360" y="2781360"/>
            <a:ext cx="71640" cy="647640"/>
          </a:xfrm>
          <a:custGeom>
            <a:avLst/>
            <a:gdLst>
              <a:gd name="textAreaLeft" fmla="*/ 0 w 71640"/>
              <a:gd name="textAreaRight" fmla="*/ 25920 w 71640"/>
              <a:gd name="textAreaTop" fmla="*/ 16560 h 647640"/>
              <a:gd name="textAreaBottom" fmla="*/ 6310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ris Valente                              Silsis- Mi, AEEE-Italia 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5c7c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f8f8"/>
                </a:solidFill>
                <a:latin typeface="Arial"/>
              </a:rPr>
              <a:t>Finalità licei</a:t>
            </a: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Verdana"/>
              </a:rPr>
              <a:t>permettere a tutti gli studenti, nella loro diversità, di acquisire saperi, competenze  e capacità che li mettano in grado di proseguire gli studi superiori o di inserirsi nella vita professionale</a:t>
            </a: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8610480" y="6324480"/>
            <a:ext cx="533520" cy="520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ris Valente                              Silsis- Mi, AEEE-Italia 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5c7c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8f8f8"/>
                </a:solidFill>
                <a:latin typeface="Arial"/>
              </a:rPr>
              <a:t>Il liceo generalista</a:t>
            </a: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5651640" y="2565360"/>
            <a:ext cx="2741400" cy="17654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468360" y="1628640"/>
            <a:ext cx="4390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900000" y="1557360"/>
            <a:ext cx="4608720" cy="70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Arial"/>
              </a:rPr>
              <a:t>tre filiere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Arial"/>
              </a:rPr>
              <a:t>Scientifica (S)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Arial"/>
              </a:rPr>
              <a:t>Economico e Sociale (ES)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Arial"/>
              </a:rPr>
              <a:t>Letteraria  (L)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8610480" y="6324480"/>
            <a:ext cx="533520" cy="520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ris Valente                              Silsis- Mi, AEEE-Italia 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5c7c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8f8f8"/>
                </a:solidFill>
                <a:latin typeface="Arial"/>
              </a:rPr>
              <a:t>Licei </a:t>
            </a:r>
            <a:br>
              <a:rPr sz="4000"/>
            </a:br>
            <a:r>
              <a:rPr b="1" lang="en-US" sz="4000" spc="-1" strike="noStrike">
                <a:solidFill>
                  <a:srgbClr val="f8f8f8"/>
                </a:solidFill>
                <a:latin typeface="Arial"/>
              </a:rPr>
              <a:t>due cicli</a:t>
            </a:r>
            <a:endParaRPr b="0" lang="en-US" sz="40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2591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43740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Verdana"/>
            </a:endParaRPr>
          </a:p>
          <a:p>
            <a:pPr marL="4374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Verdana"/>
              </a:rPr>
              <a:t>ciclo d</a:t>
            </a:r>
            <a:r>
              <a:rPr b="1" i="1" lang="en-US" sz="2400" spc="-1" strike="noStrike">
                <a:solidFill>
                  <a:srgbClr val="f8f8f8"/>
                </a:solidFill>
                <a:latin typeface="Verdana"/>
              </a:rPr>
              <a:t>i determinazione</a:t>
            </a:r>
            <a:endParaRPr b="0" lang="en-US" sz="2400" spc="-1" strike="noStrike">
              <a:solidFill>
                <a:srgbClr val="f8f8f8"/>
              </a:solidFill>
              <a:latin typeface="Verdana"/>
            </a:endParaRPr>
          </a:p>
          <a:p>
            <a:pPr marL="4374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Verdana"/>
            </a:endParaRPr>
          </a:p>
          <a:p>
            <a:pPr marL="4374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Verdana"/>
              </a:rPr>
              <a:t>finalità orientative </a:t>
            </a:r>
            <a:endParaRPr b="0" lang="en-US" sz="2400" spc="-1" strike="noStrike">
              <a:solidFill>
                <a:srgbClr val="f8f8f8"/>
              </a:solidFill>
              <a:latin typeface="Verdana"/>
            </a:endParaRPr>
          </a:p>
          <a:p>
            <a:pPr marL="4374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Verdana"/>
            </a:endParaRPr>
          </a:p>
          <a:p>
            <a:pPr marL="437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Verdana"/>
              </a:rPr>
              <a:t>             </a:t>
            </a:r>
            <a:r>
              <a:rPr b="1" lang="en-US" sz="1800" spc="-1" strike="noStrike">
                <a:solidFill>
                  <a:srgbClr val="f8f8f8"/>
                </a:solidFill>
                <a:latin typeface="Verdana"/>
              </a:rPr>
              <a:t>1 anno</a:t>
            </a:r>
            <a:r>
              <a:rPr b="1" i="1" lang="en-US" sz="2400" spc="-1" strike="noStrike">
                <a:solidFill>
                  <a:srgbClr val="f8f8f8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Verdana"/>
            </a:endParaRPr>
          </a:p>
          <a:p>
            <a:pPr marL="437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8f8f8"/>
                </a:solidFill>
                <a:latin typeface="Verdana"/>
              </a:rPr>
              <a:t>  </a:t>
            </a:r>
            <a:r>
              <a:rPr b="1" i="1" lang="en-US" sz="2400" spc="-1" strike="noStrike">
                <a:solidFill>
                  <a:srgbClr val="f8f8f8"/>
                </a:solidFill>
                <a:latin typeface="Verdana"/>
              </a:rPr>
              <a:t>seconde</a:t>
            </a:r>
            <a:r>
              <a:rPr b="1" i="1" lang="en-US" sz="1800" spc="-1" strike="noStrike">
                <a:solidFill>
                  <a:srgbClr val="f8f8f8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Verdana"/>
            </a:endParaRPr>
          </a:p>
          <a:p>
            <a:pPr marL="43740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Verdana"/>
            </a:endParaRPr>
          </a:p>
          <a:p>
            <a:pPr marL="43740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Verdana"/>
            </a:endParaRPr>
          </a:p>
          <a:p>
            <a:pPr marL="4374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Verdana"/>
            </a:endParaRPr>
          </a:p>
          <a:p>
            <a:pPr marL="437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Verdana"/>
            </a:endParaRPr>
          </a:p>
          <a:p>
            <a:pPr marL="437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Verdana"/>
            </a:endParaRPr>
          </a:p>
          <a:p>
            <a:pPr marL="437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Verdana"/>
              </a:rPr>
              <a:t>- comuni  </a:t>
            </a:r>
            <a:endParaRPr b="0" lang="en-US" sz="2400" spc="-1" strike="noStrike">
              <a:solidFill>
                <a:srgbClr val="f8f8f8"/>
              </a:solidFill>
              <a:latin typeface="Verdana"/>
            </a:endParaRPr>
          </a:p>
          <a:p>
            <a:pPr marL="437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Verdana"/>
              </a:rPr>
              <a:t>- di determinazione </a:t>
            </a:r>
            <a:endParaRPr b="0" lang="en-US" sz="2400" spc="-1" strike="noStrike">
              <a:solidFill>
                <a:srgbClr val="f8f8f8"/>
              </a:solidFill>
              <a:latin typeface="Verdana"/>
            </a:endParaRPr>
          </a:p>
          <a:p>
            <a:pPr marL="437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Verdana"/>
            </a:endParaRPr>
          </a:p>
          <a:p>
            <a:pPr marL="43740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Verdana"/>
            </a:endParaRPr>
          </a:p>
          <a:p>
            <a:pPr marL="437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 algn="ctr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8f8f8"/>
              </a:solidFill>
              <a:latin typeface="Verdana"/>
            </a:endParaRPr>
          </a:p>
          <a:p>
            <a:pPr marL="2916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8f8f8"/>
                </a:solidFill>
                <a:latin typeface="Verdana"/>
              </a:rPr>
              <a:t>ciclo</a:t>
            </a:r>
            <a:r>
              <a:rPr b="1" i="1" lang="it-IT" sz="2400" spc="-1" strike="noStrike">
                <a:solidFill>
                  <a:srgbClr val="f8f8f8"/>
                </a:solidFill>
                <a:latin typeface="Verdana"/>
              </a:rPr>
              <a:t> terminale</a:t>
            </a:r>
            <a:endParaRPr b="0" lang="en-US" sz="2400" spc="-1" strike="noStrike">
              <a:solidFill>
                <a:srgbClr val="f8f8f8"/>
              </a:solidFill>
              <a:latin typeface="Verdana"/>
            </a:endParaRPr>
          </a:p>
          <a:p>
            <a:pPr marL="2916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Verdana"/>
            </a:endParaRPr>
          </a:p>
          <a:p>
            <a:pPr marL="2916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8f8f8"/>
                </a:solidFill>
                <a:latin typeface="Verdana"/>
              </a:rPr>
              <a:t>baccalauréat</a:t>
            </a:r>
            <a:endParaRPr b="0" lang="en-US" sz="2400" spc="-1" strike="noStrike">
              <a:solidFill>
                <a:srgbClr val="f8f8f8"/>
              </a:solidFill>
              <a:latin typeface="Verdana"/>
            </a:endParaRPr>
          </a:p>
          <a:p>
            <a:pPr marL="2916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Verdana"/>
            </a:endParaRPr>
          </a:p>
          <a:p>
            <a:pPr marL="2916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f8f8f8"/>
                </a:solidFill>
                <a:latin typeface="Verdana"/>
              </a:rPr>
              <a:t> </a:t>
            </a:r>
            <a:r>
              <a:rPr b="1" lang="it-IT" sz="2000" spc="-1" strike="noStrike">
                <a:solidFill>
                  <a:srgbClr val="f8f8f8"/>
                </a:solidFill>
                <a:latin typeface="Verdana"/>
              </a:rPr>
              <a:t>2 anni</a:t>
            </a:r>
            <a:endParaRPr b="0" lang="en-US" sz="2000" spc="-1" strike="noStrike">
              <a:solidFill>
                <a:srgbClr val="f8f8f8"/>
              </a:solidFill>
              <a:latin typeface="Verdana"/>
            </a:endParaRPr>
          </a:p>
          <a:p>
            <a:pPr marL="2916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f8f8f8"/>
                </a:solidFill>
                <a:latin typeface="Verdana"/>
              </a:rPr>
              <a:t>         </a:t>
            </a:r>
            <a:r>
              <a:rPr b="1" i="1" lang="it-IT" sz="2400" spc="-1" strike="noStrike">
                <a:solidFill>
                  <a:srgbClr val="f8f8f8"/>
                </a:solidFill>
                <a:latin typeface="Verdana"/>
              </a:rPr>
              <a:t>première </a:t>
            </a:r>
            <a:endParaRPr b="0" lang="en-US" sz="2400" spc="-1" strike="noStrike">
              <a:solidFill>
                <a:srgbClr val="f8f8f8"/>
              </a:solidFill>
              <a:latin typeface="Verdana"/>
            </a:endParaRPr>
          </a:p>
          <a:p>
            <a:pPr marL="2916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f8f8f8"/>
                </a:solidFill>
                <a:latin typeface="Verdana"/>
              </a:rPr>
              <a:t>         </a:t>
            </a:r>
            <a:r>
              <a:rPr b="1" i="1" lang="it-IT" sz="2400" spc="-1" strike="noStrike">
                <a:solidFill>
                  <a:srgbClr val="f8f8f8"/>
                </a:solidFill>
                <a:latin typeface="Verdana"/>
              </a:rPr>
              <a:t>terminale </a:t>
            </a:r>
            <a:endParaRPr b="0" lang="en-US" sz="2400" spc="-1" strike="noStrike">
              <a:solidFill>
                <a:srgbClr val="f8f8f8"/>
              </a:solidFill>
              <a:latin typeface="Verdana"/>
            </a:endParaRPr>
          </a:p>
          <a:p>
            <a:pPr marL="291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8f8f8"/>
                </a:solidFill>
                <a:latin typeface="Verdana"/>
              </a:rPr>
              <a:t>      </a:t>
            </a:r>
            <a:endParaRPr b="0" lang="en-US" sz="2000" spc="-1" strike="noStrike">
              <a:solidFill>
                <a:srgbClr val="f8f8f8"/>
              </a:solidFill>
              <a:latin typeface="Verdana"/>
            </a:endParaRPr>
          </a:p>
          <a:p>
            <a:pPr marL="2916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Verdana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8f8f8"/>
                </a:solidFill>
                <a:latin typeface="Verdana"/>
              </a:rPr>
              <a:t>   </a:t>
            </a:r>
            <a:endParaRPr b="0" lang="en-US" sz="2400" spc="-1" strike="noStrike">
              <a:solidFill>
                <a:srgbClr val="f8f8f8"/>
              </a:solidFill>
              <a:latin typeface="Verdana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8f8f8"/>
                </a:solidFill>
                <a:latin typeface="Verdana"/>
              </a:rPr>
              <a:t>   </a:t>
            </a:r>
            <a:r>
              <a:rPr b="1" lang="it-IT" sz="2400" spc="-1" strike="noStrike">
                <a:solidFill>
                  <a:srgbClr val="f8f8f8"/>
                </a:solidFill>
                <a:latin typeface="Verdana"/>
              </a:rPr>
              <a:t>- comuni</a:t>
            </a:r>
            <a:endParaRPr b="0" lang="en-US" sz="2400" spc="-1" strike="noStrike">
              <a:solidFill>
                <a:srgbClr val="f8f8f8"/>
              </a:solidFill>
              <a:latin typeface="Verdana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8f8f8"/>
                </a:solidFill>
                <a:latin typeface="Verdana"/>
              </a:rPr>
              <a:t>   </a:t>
            </a:r>
            <a:r>
              <a:rPr b="1" lang="it-IT" sz="2400" spc="-1" strike="noStrike">
                <a:solidFill>
                  <a:srgbClr val="f8f8f8"/>
                </a:solidFill>
                <a:latin typeface="Verdana"/>
              </a:rPr>
              <a:t>- di specializzazione </a:t>
            </a:r>
            <a:endParaRPr b="0" lang="en-US" sz="2400" spc="-1" strike="noStrike">
              <a:solidFill>
                <a:srgbClr val="f8f8f8"/>
              </a:solidFill>
              <a:latin typeface="Verdana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8f8f8"/>
                </a:solidFill>
                <a:latin typeface="Verdana"/>
              </a:rPr>
              <a:t>   </a:t>
            </a:r>
            <a:r>
              <a:rPr b="1" lang="it-IT" sz="2400" spc="-1" strike="noStrike">
                <a:solidFill>
                  <a:srgbClr val="f8f8f8"/>
                </a:solidFill>
                <a:latin typeface="Verdana"/>
              </a:rPr>
              <a:t>- facoltative</a:t>
            </a:r>
            <a:endParaRPr b="0" lang="en-US" sz="2400" spc="-1" strike="noStrike">
              <a:solidFill>
                <a:srgbClr val="f8f8f8"/>
              </a:solidFill>
              <a:latin typeface="Verdana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8f8f8"/>
                </a:solidFill>
                <a:latin typeface="Verdana"/>
              </a:rPr>
              <a:t>      </a:t>
            </a:r>
            <a:endParaRPr b="0" lang="en-US" sz="2400" spc="-1" strike="noStrike">
              <a:solidFill>
                <a:srgbClr val="f8f8f8"/>
              </a:solidFill>
              <a:latin typeface="Verdana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2411280" y="1484280"/>
            <a:ext cx="935280" cy="287280"/>
          </a:xfrm>
          <a:prstGeom prst="line">
            <a:avLst/>
          </a:prstGeom>
          <a:ln w="9360">
            <a:solidFill>
              <a:srgbClr val="f8f8f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796000" y="1413000"/>
            <a:ext cx="863640" cy="287280"/>
          </a:xfrm>
          <a:prstGeom prst="line">
            <a:avLst/>
          </a:prstGeom>
          <a:ln w="9360">
            <a:solidFill>
              <a:srgbClr val="f8f8f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8610480" y="6324480"/>
            <a:ext cx="533520" cy="52092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3203640" y="4292640"/>
            <a:ext cx="2376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Verdana"/>
              </a:rPr>
              <a:t>DISCIPLINE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708360" y="2924280"/>
            <a:ext cx="16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Verdana"/>
              </a:rPr>
              <a:t>CLASSI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268360" y="2133720"/>
            <a:ext cx="0" cy="287280"/>
          </a:xfrm>
          <a:prstGeom prst="line">
            <a:avLst/>
          </a:prstGeom>
          <a:ln w="9360">
            <a:solidFill>
              <a:srgbClr val="f8f8f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659640" y="2205000"/>
            <a:ext cx="0" cy="287280"/>
          </a:xfrm>
          <a:prstGeom prst="line">
            <a:avLst/>
          </a:prstGeom>
          <a:ln w="9360">
            <a:solidFill>
              <a:srgbClr val="f8f8f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2627280" y="3284640"/>
            <a:ext cx="1152720" cy="288720"/>
          </a:xfrm>
          <a:prstGeom prst="line">
            <a:avLst/>
          </a:prstGeom>
          <a:ln w="9360">
            <a:solidFill>
              <a:srgbClr val="f8f8f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292720" y="3213000"/>
            <a:ext cx="863640" cy="360360"/>
          </a:xfrm>
          <a:prstGeom prst="line">
            <a:avLst/>
          </a:prstGeom>
          <a:ln w="9360">
            <a:solidFill>
              <a:srgbClr val="f8f8f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flipH="1">
            <a:off x="2050560" y="4941720"/>
            <a:ext cx="1008360" cy="505080"/>
          </a:xfrm>
          <a:prstGeom prst="line">
            <a:avLst/>
          </a:prstGeom>
          <a:ln w="9360">
            <a:solidFill>
              <a:srgbClr val="f8f8f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508720" y="4869000"/>
            <a:ext cx="936360" cy="433080"/>
          </a:xfrm>
          <a:prstGeom prst="line">
            <a:avLst/>
          </a:prstGeom>
          <a:ln w="9360">
            <a:solidFill>
              <a:srgbClr val="f8f8f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ris Valente                              Silsis- Mi, AEEE-Italia 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5c7c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f8f8"/>
                </a:solidFill>
                <a:latin typeface="Arial"/>
              </a:rPr>
              <a:t>Profili di studio</a:t>
            </a: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Verdana"/>
              </a:rPr>
              <a:t>Articolazione 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Verdana"/>
              </a:rPr>
              <a:t>disciplina opzionale obbligatoria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Verdana"/>
              </a:rPr>
              <a:t>approfondimento 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92" name=""/>
          <p:cNvSpPr/>
          <p:nvPr/>
        </p:nvSpPr>
        <p:spPr>
          <a:xfrm>
            <a:off x="4500720" y="4076640"/>
            <a:ext cx="0" cy="504720"/>
          </a:xfrm>
          <a:prstGeom prst="line">
            <a:avLst/>
          </a:prstGeom>
          <a:ln w="9360">
            <a:solidFill>
              <a:srgbClr val="f8f8f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8610480" y="6324480"/>
            <a:ext cx="533520" cy="52092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4500720" y="2349360"/>
            <a:ext cx="0" cy="792360"/>
          </a:xfrm>
          <a:prstGeom prst="line">
            <a:avLst/>
          </a:prstGeom>
          <a:ln w="9360">
            <a:solidFill>
              <a:srgbClr val="f8f8f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ris Valente                              Silsis- Mi, AEEE-Italia 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5c7c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f8f8"/>
                </a:solidFill>
                <a:latin typeface="Arial"/>
              </a:rPr>
              <a:t>Sbocchi licei</a:t>
            </a: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8f8f8"/>
                </a:solidFill>
                <a:latin typeface="Verdana"/>
              </a:rPr>
              <a:t>università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8f8f8"/>
                </a:solidFill>
                <a:latin typeface="Verdana"/>
              </a:rPr>
              <a:t>classi preparatorie alle “</a:t>
            </a:r>
            <a:r>
              <a:rPr b="1" i="1" lang="it-IT" sz="3200" spc="-1" strike="noStrike">
                <a:solidFill>
                  <a:srgbClr val="f8f8f8"/>
                </a:solidFill>
                <a:latin typeface="Verdana"/>
              </a:rPr>
              <a:t>grandes écoles</a:t>
            </a:r>
            <a:r>
              <a:rPr b="1" lang="it-IT" sz="3200" spc="-1" strike="noStrike">
                <a:solidFill>
                  <a:srgbClr val="f8f8f8"/>
                </a:solidFill>
                <a:latin typeface="Verdana"/>
              </a:rPr>
              <a:t>” 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8f8f8"/>
                </a:solidFill>
                <a:latin typeface="Verdana"/>
              </a:rPr>
              <a:t>sezioni per tecnici superiori 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8f8f8"/>
                </a:solidFill>
                <a:latin typeface="Verdana"/>
              </a:rPr>
              <a:t>IUT (Instituts Universitaires de tecnologie) 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8610480" y="6324480"/>
            <a:ext cx="533520" cy="520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ris Valente                              Silsis- Mi, AEEE-Italia 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5c7c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611280" y="692280"/>
            <a:ext cx="3456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600200" y="826920"/>
            <a:ext cx="17478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79280" y="189000"/>
            <a:ext cx="3348000" cy="34160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Verdana"/>
              </a:rPr>
              <a:t>Modello tedesco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Verdana"/>
              </a:rPr>
              <a:t>Germania, Austria Lussemburgo 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Verdana"/>
              </a:rPr>
              <a:t>Olanda Belgio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Verdana"/>
              </a:rPr>
              <a:t>orientamento   precoce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51280" y="0"/>
            <a:ext cx="4535640" cy="34268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8f8f8"/>
                </a:solidFill>
                <a:latin typeface="Verdana"/>
              </a:rPr>
              <a:t>Modello anglosassone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8f8f8"/>
                </a:solidFill>
                <a:latin typeface="Verdana"/>
              </a:rPr>
              <a:t>Inghilterra,  Scozia, Galles, Irlanda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8f8f8"/>
                </a:solidFill>
                <a:latin typeface="Verdana"/>
              </a:rPr>
              <a:t>sistema flessibile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8f8f8"/>
                </a:solidFill>
                <a:latin typeface="Verdana"/>
              </a:rPr>
              <a:t>piano di studi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8f8f8"/>
                </a:solidFill>
                <a:latin typeface="Verdana"/>
              </a:rPr>
              <a:t>1988  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8f8f8"/>
                </a:solidFill>
                <a:latin typeface="Verdana"/>
              </a:rPr>
              <a:t>Educational Reform Act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8f8f8"/>
                </a:solidFill>
                <a:latin typeface="Verdana"/>
              </a:rPr>
              <a:t>NATIONAL  CURRICULUM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995640" y="3645000"/>
            <a:ext cx="3957840" cy="300636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Verdana"/>
              </a:rPr>
              <a:t>Modello latino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Verdana"/>
              </a:rPr>
              <a:t>Francia Italia Spagna Grecia Portogallo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8f8f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Verdana"/>
              </a:rPr>
              <a:t>formazione base comune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500"/>
              </a:spcBef>
              <a:buClr>
                <a:srgbClr val="f8f8f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Verdana"/>
              </a:rPr>
              <a:t>Differenziazione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Verdana"/>
              </a:rPr>
              <a:t>tipologie scuole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3573360"/>
            <a:ext cx="3708360" cy="313848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8f8f8"/>
                </a:solidFill>
                <a:latin typeface="Verdana"/>
              </a:rPr>
              <a:t>Modello scandinavo unitario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8f8f8"/>
                </a:solidFill>
                <a:latin typeface="Verdana"/>
              </a:rPr>
              <a:t>Danimarca Svezia Finlandia Norvegia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buClr>
                <a:srgbClr val="f8f8f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8f8f8"/>
                </a:solidFill>
                <a:latin typeface="Verdana"/>
              </a:rPr>
              <a:t>Compulsory school 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buClr>
                <a:srgbClr val="f8f8f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8f8f8"/>
                </a:solidFill>
                <a:latin typeface="Verdana"/>
              </a:rPr>
              <a:t>Scuola polivalente</a:t>
            </a:r>
            <a:r>
              <a:rPr b="0" lang="it-IT" sz="2000" spc="-1" strike="noStrike">
                <a:solidFill>
                  <a:srgbClr val="f8f8f8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8f8f8"/>
                </a:solidFill>
                <a:latin typeface="Verdana"/>
              </a:rPr>
              <a:t>(programmi)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ris Valente                              Silsis- Mi, AEEE-Italia 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5c7c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4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8f8f8"/>
                </a:solidFill>
                <a:latin typeface="Arial"/>
              </a:rPr>
              <a:t>Lycée ES</a:t>
            </a:r>
            <a:r>
              <a:rPr b="0" lang="it-IT" sz="4400" spc="-1" strike="noStrike">
                <a:solidFill>
                  <a:srgbClr val="d1ddd4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931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Verdana"/>
              </a:rPr>
              <a:t>baricentro 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Verdana"/>
              </a:rPr>
              <a:t>“</a:t>
            </a:r>
            <a:r>
              <a:rPr b="1" lang="en-US" sz="3200" spc="-1" strike="noStrike">
                <a:solidFill>
                  <a:srgbClr val="f8f8f8"/>
                </a:solidFill>
                <a:latin typeface="Verdana"/>
              </a:rPr>
              <a:t>terza cultura” 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Verdana"/>
              </a:rPr>
              <a:t>scienze economiche e sociali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Verdana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8610480" y="6324480"/>
            <a:ext cx="533520" cy="52092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4427640" y="2852640"/>
            <a:ext cx="0" cy="1008000"/>
          </a:xfrm>
          <a:prstGeom prst="line">
            <a:avLst/>
          </a:prstGeom>
          <a:ln w="9360">
            <a:solidFill>
              <a:srgbClr val="f8f8f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ris Valente                              Silsis- Mi, AEEE-Italia 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5c7c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8f8f8"/>
                </a:solidFill>
                <a:latin typeface="Arial"/>
              </a:rPr>
              <a:t>origine lycée ES</a:t>
            </a: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8f8f8"/>
                </a:solidFill>
                <a:latin typeface="Verdana"/>
              </a:rPr>
              <a:t>anni sessanta 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marL="27432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8f8f8"/>
                </a:solidFill>
                <a:latin typeface="Verdana"/>
              </a:rPr>
              <a:t>liceo  generalista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marL="27432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8f8f8"/>
                </a:solidFill>
                <a:latin typeface="Verdana"/>
              </a:rPr>
              <a:t>sezione B 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marL="27432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marL="27432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marL="27432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8f8f8"/>
                </a:solidFill>
                <a:latin typeface="Verdana"/>
              </a:rPr>
              <a:t>anni novanta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marL="27432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8f8f8"/>
                </a:solidFill>
                <a:latin typeface="Verdana"/>
              </a:rPr>
              <a:t>riforma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marL="2743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>
                <a:solidFill>
                  <a:srgbClr val="f8f8f8"/>
                </a:solidFill>
                <a:latin typeface="Verdana"/>
              </a:rPr>
              <a:t>lycée économique et sociale</a:t>
            </a:r>
            <a:r>
              <a:rPr b="0" lang="it-IT" sz="2800" spc="-1" strike="noStrike">
                <a:solidFill>
                  <a:srgbClr val="f8f8f8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  <a:p>
            <a:pPr marL="2743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8f8f8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  <a:p>
            <a:pPr marL="2743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ris Valente                              Silsis- Mi, AEEE-Italia 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5c7c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f8f8"/>
                </a:solidFill>
                <a:latin typeface="Arial"/>
              </a:rPr>
              <a:t>esigenze </a:t>
            </a: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Verdana"/>
              </a:rPr>
              <a:t>migliorare la formazione in campo economico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Verdana"/>
              </a:rPr>
              <a:t>rispondere alle richieste di nuova scolarizzazione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Verdana"/>
              </a:rPr>
              <a:t>dare spazio alle scienze sociali nella formazione liceale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ris Valente                              Silsis- Mi, AEEE-Italia 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5c7c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250920" y="299700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Verdana"/>
              </a:rPr>
              <a:t>Scienze economiche 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Verdana"/>
              </a:rPr>
              <a:t>e sociali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105520" y="2707920"/>
            <a:ext cx="4038480" cy="34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8f8f8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8f8f8"/>
                </a:solidFill>
                <a:latin typeface="Verdana"/>
              </a:rPr>
              <a:t>campi </a:t>
            </a: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8f8f8"/>
                </a:solidFill>
                <a:latin typeface="Verdana"/>
              </a:rPr>
              <a:t>matematico-scientifico</a:t>
            </a: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8f8f8"/>
                </a:solidFill>
                <a:latin typeface="Verdana"/>
              </a:rPr>
              <a:t>linguistico-letterario</a:t>
            </a: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208" name=""/>
          <p:cNvSpPr/>
          <p:nvPr/>
        </p:nvSpPr>
        <p:spPr>
          <a:xfrm>
            <a:off x="3059280" y="476280"/>
            <a:ext cx="3960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flipH="1">
            <a:off x="1618920" y="2852640"/>
            <a:ext cx="647640" cy="719280"/>
          </a:xfrm>
          <a:prstGeom prst="line">
            <a:avLst/>
          </a:prstGeom>
          <a:ln w="9360">
            <a:solidFill>
              <a:srgbClr val="f8f8f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732720" y="2565360"/>
            <a:ext cx="792000" cy="719280"/>
          </a:xfrm>
          <a:prstGeom prst="line">
            <a:avLst/>
          </a:prstGeom>
          <a:ln w="9360">
            <a:solidFill>
              <a:srgbClr val="f8f8f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627280" y="692280"/>
            <a:ext cx="3816360" cy="280800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Verdana"/>
              </a:rPr>
              <a:t>acquisizione di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Verdana"/>
              </a:rPr>
              <a:t>conoscenze 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Verdana"/>
              </a:rPr>
              <a:t>competenze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Verdana"/>
              </a:rPr>
              <a:t>strumenti 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Verdana"/>
              </a:rPr>
              <a:t>metodologici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ris Valente                              Silsis- Mi, AEEE-Italia 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5c7c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f8f8"/>
                </a:solidFill>
                <a:latin typeface="Arial"/>
              </a:rPr>
              <a:t>LYCEE ES</a:t>
            </a: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8f8f8"/>
                </a:solidFill>
                <a:latin typeface="Verdana"/>
              </a:rPr>
              <a:t>profili di studio  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8f8f8"/>
                </a:solidFill>
                <a:latin typeface="Verdana"/>
              </a:rPr>
              <a:t>opzioni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Verdana"/>
              </a:rPr>
              <a:t>scienze economiche e sociali                   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Verdana"/>
              </a:rPr>
              <a:t>scienze economico-matematiche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Verdana"/>
              </a:rPr>
              <a:t>lingue straniere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ris Valente                              Silsis- Mi, AEEE-Italia 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5c7c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900000" y="45000"/>
            <a:ext cx="806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8f8f8"/>
                </a:solidFill>
                <a:latin typeface="Arial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f8f8f8"/>
                </a:solidFill>
                <a:latin typeface="Arial"/>
                <a:ea typeface="Times New Roman"/>
              </a:rPr>
              <a:t>Discipline  di insegnamento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0" y="549360"/>
          <a:ext cx="8424720" cy="5964120"/>
        </p:xfrm>
        <a:graphic>
          <a:graphicData uri="http://schemas.openxmlformats.org/drawingml/2006/table">
            <a:tbl>
              <a:tblPr/>
              <a:tblGrid>
                <a:gridCol w="4213080"/>
                <a:gridCol w="4211640"/>
              </a:tblGrid>
              <a:tr h="3111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f8f8f8"/>
                          </a:solidFill>
                          <a:latin typeface="Arial"/>
                          <a:ea typeface="Times New Roman"/>
                        </a:rPr>
                        <a:t>Insegnamenti obbligatori comuni</a:t>
                      </a:r>
                      <a:endParaRPr b="0" lang="en-US" sz="24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8f8f8"/>
                        </a:buClr>
                        <a:buSzPct val="70000"/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8f8f8"/>
                          </a:solidFill>
                          <a:latin typeface="Arial"/>
                          <a:ea typeface="Times New Roman"/>
                        </a:rPr>
                        <a:t>scienze economiche e sociali </a:t>
                      </a:r>
                      <a:endParaRPr b="0" lang="en-US" sz="1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8f8f8"/>
                        </a:buClr>
                        <a:buSzPct val="70000"/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8f8f8"/>
                          </a:solidFill>
                          <a:latin typeface="Arial"/>
                          <a:ea typeface="Times New Roman"/>
                        </a:rPr>
                        <a:t>storia e geografia </a:t>
                      </a:r>
                      <a:endParaRPr b="0" lang="en-US" sz="1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8f8f8"/>
                        </a:buClr>
                        <a:buSzPct val="70000"/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8f8f8"/>
                          </a:solidFill>
                          <a:latin typeface="Arial"/>
                          <a:ea typeface="Times New Roman"/>
                        </a:rPr>
                        <a:t>francese</a:t>
                      </a:r>
                      <a:endParaRPr b="0" lang="en-US" sz="1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8f8f8"/>
                        </a:buClr>
                        <a:buSzPct val="70000"/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8f8f8"/>
                          </a:solidFill>
                          <a:latin typeface="Arial"/>
                          <a:ea typeface="Times New Roman"/>
                        </a:rPr>
                        <a:t>filosofia </a:t>
                      </a:r>
                      <a:endParaRPr b="0" lang="en-US" sz="1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8f8f8"/>
                        </a:buClr>
                        <a:buSzPct val="70000"/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8f8f8"/>
                          </a:solidFill>
                          <a:latin typeface="Arial"/>
                          <a:ea typeface="Times New Roman"/>
                        </a:rPr>
                        <a:t>matematica </a:t>
                      </a:r>
                      <a:endParaRPr b="0" lang="en-US" sz="1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8f8f8"/>
                        </a:buClr>
                        <a:buSzPct val="70000"/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8f8f8"/>
                          </a:solidFill>
                          <a:latin typeface="Arial"/>
                          <a:ea typeface="Times New Roman"/>
                        </a:rPr>
                        <a:t>due lingue straniere</a:t>
                      </a:r>
                      <a:endParaRPr b="0" lang="en-US" sz="1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8f8f8"/>
                        </a:buClr>
                        <a:buSzPct val="70000"/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8f8f8"/>
                          </a:solidFill>
                          <a:latin typeface="Arial"/>
                          <a:ea typeface="Times New Roman"/>
                        </a:rPr>
                        <a:t>biologia </a:t>
                      </a:r>
                      <a:endParaRPr b="0" lang="en-US" sz="1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8f8f8"/>
                        </a:buClr>
                        <a:buSzPct val="70000"/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8f8f8"/>
                          </a:solidFill>
                          <a:latin typeface="Arial"/>
                          <a:ea typeface="Times New Roman"/>
                        </a:rPr>
                        <a:t>educazione fisica e sportiva </a:t>
                      </a:r>
                      <a:endParaRPr b="0" lang="en-US" sz="1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8f8f8"/>
                        </a:buClr>
                        <a:buSzPct val="70000"/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8f8f8"/>
                          </a:solidFill>
                          <a:latin typeface="Arial"/>
                          <a:ea typeface="Times New Roman"/>
                        </a:rPr>
                        <a:t>educazione civica giuridica e sociale</a:t>
                      </a:r>
                      <a:endParaRPr b="0" lang="en-US" sz="1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0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f8f8f8"/>
                          </a:solidFill>
                          <a:latin typeface="Arial"/>
                          <a:ea typeface="Times New Roman"/>
                        </a:rPr>
                        <a:t>insegnamento obbligatorio di specializzazione</a:t>
                      </a:r>
                      <a:endParaRPr b="0" lang="en-US" sz="24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f8f8f8"/>
                          </a:solidFill>
                          <a:latin typeface="Arial"/>
                          <a:ea typeface="Times New Roman"/>
                        </a:rPr>
                        <a:t>(uno)</a:t>
                      </a:r>
                      <a:endParaRPr b="0" lang="en-US" sz="24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8f8f8"/>
                          </a:solidFill>
                          <a:latin typeface="Arial"/>
                          <a:ea typeface="Times New Roman"/>
                        </a:rPr>
                        <a:t>scienze economiche e sociali</a:t>
                      </a:r>
                      <a:endParaRPr b="0" lang="en-US" sz="1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8f8f8"/>
                        </a:buClr>
                        <a:buSzPct val="70000"/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8f8f8"/>
                          </a:solidFill>
                          <a:latin typeface="Arial"/>
                          <a:ea typeface="Times New Roman"/>
                        </a:rPr>
                        <a:t>matematica</a:t>
                      </a:r>
                      <a:endParaRPr b="0" lang="en-US" sz="1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8f8f8"/>
                        </a:buClr>
                        <a:buSzPct val="70000"/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8f8f8"/>
                          </a:solidFill>
                          <a:latin typeface="Arial"/>
                          <a:ea typeface="Times New Roman"/>
                        </a:rPr>
                        <a:t>lingua straniera 1</a:t>
                      </a:r>
                      <a:endParaRPr b="0" lang="en-US" sz="1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8f8f8"/>
                        </a:buClr>
                        <a:buSzPct val="70000"/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8f8f8"/>
                          </a:solidFill>
                          <a:latin typeface="Arial"/>
                          <a:ea typeface="Times New Roman"/>
                        </a:rPr>
                        <a:t>lingua straniera 2</a:t>
                      </a:r>
                      <a:endParaRPr b="0" lang="en-US" sz="1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2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f8f8f8"/>
                          </a:solidFill>
                          <a:latin typeface="Arial"/>
                          <a:ea typeface="Times New Roman"/>
                        </a:rPr>
                        <a:t>Opzioni facoltative</a:t>
                      </a:r>
                      <a:endParaRPr b="0" lang="en-US" sz="24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f8f8f8"/>
                          </a:solidFill>
                          <a:latin typeface="Arial"/>
                          <a:ea typeface="Times New Roman"/>
                        </a:rPr>
                        <a:t>(massimo due scelte)</a:t>
                      </a:r>
                      <a:endParaRPr b="0" lang="en-US" sz="24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8f8f8"/>
                          </a:solidFill>
                          <a:latin typeface="Arial"/>
                          <a:ea typeface="Times New Roman"/>
                        </a:rPr>
                        <a:t>latino </a:t>
                      </a:r>
                      <a:endParaRPr b="0" lang="en-US" sz="1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8f8f8"/>
                        </a:buClr>
                        <a:buSzPct val="70000"/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8f8f8"/>
                          </a:solidFill>
                          <a:latin typeface="Arial"/>
                          <a:ea typeface="Times New Roman"/>
                        </a:rPr>
                        <a:t>greco </a:t>
                      </a:r>
                      <a:endParaRPr b="0" lang="en-US" sz="1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8f8f8"/>
                        </a:buClr>
                        <a:buSzPct val="70000"/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8f8f8"/>
                          </a:solidFill>
                          <a:latin typeface="Arial"/>
                          <a:ea typeface="Times New Roman"/>
                        </a:rPr>
                        <a:t>lingua straniera 3 </a:t>
                      </a:r>
                      <a:endParaRPr b="0" lang="en-US" sz="1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8f8f8"/>
                        </a:buClr>
                        <a:buSzPct val="70000"/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8f8f8"/>
                          </a:solidFill>
                          <a:latin typeface="Arial"/>
                          <a:ea typeface="Times New Roman"/>
                        </a:rPr>
                        <a:t>educazione fisica e sportiva</a:t>
                      </a:r>
                      <a:endParaRPr b="0" lang="en-US" sz="1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8f8f8"/>
                        </a:buClr>
                        <a:buSzPct val="70000"/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8f8f8"/>
                          </a:solidFill>
                          <a:latin typeface="Arial"/>
                          <a:ea typeface="Times New Roman"/>
                        </a:rPr>
                        <a:t>Arte</a:t>
                      </a:r>
                      <a:endParaRPr b="0" lang="en-US" sz="1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6" name=""/>
          <p:cNvSpPr/>
          <p:nvPr/>
        </p:nvSpPr>
        <p:spPr>
          <a:xfrm>
            <a:off x="0" y="530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ris Valente                              Silsis- Mi, AEEE-Italia 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5c7c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5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Arial"/>
              </a:rPr>
              <a:t>Scienze Economiche e Sociali </a:t>
            </a:r>
            <a:br>
              <a:rPr sz="3200"/>
            </a:br>
            <a:endParaRPr b="0" lang="en-US" sz="36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Verdana"/>
              </a:rPr>
              <a:t>caratterizzante</a:t>
            </a: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Verdana"/>
              </a:rPr>
              <a:t>far acquisire </a:t>
            </a: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8f8f8"/>
                </a:solidFill>
                <a:latin typeface="Verdana"/>
              </a:rPr>
              <a:t>cultura                                                 competenze</a:t>
            </a:r>
            <a:endParaRPr b="0" lang="en-US" sz="2000" spc="-1" strike="noStrike">
              <a:solidFill>
                <a:srgbClr val="f8f8f8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8f8f8"/>
                </a:solidFill>
                <a:latin typeface="Verdana"/>
              </a:rPr>
              <a:t>polivalente                                            trasversali</a:t>
            </a:r>
            <a:endParaRPr b="0" lang="en-US" sz="20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Verdana"/>
              </a:rPr>
              <a:t>                              </a:t>
            </a:r>
            <a:endParaRPr b="0" lang="en-US" sz="24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2050920" y="3716280"/>
            <a:ext cx="2376720" cy="792360"/>
          </a:xfrm>
          <a:prstGeom prst="line">
            <a:avLst/>
          </a:prstGeom>
          <a:ln w="9360">
            <a:solidFill>
              <a:srgbClr val="f8f8f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643280" y="3716280"/>
            <a:ext cx="2305080" cy="865080"/>
          </a:xfrm>
          <a:prstGeom prst="line">
            <a:avLst/>
          </a:prstGeom>
          <a:ln w="9360">
            <a:solidFill>
              <a:srgbClr val="f8f8f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8610480" y="6324480"/>
            <a:ext cx="533520" cy="52092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4500720" y="2565360"/>
            <a:ext cx="0" cy="360360"/>
          </a:xfrm>
          <a:prstGeom prst="line">
            <a:avLst/>
          </a:prstGeom>
          <a:ln w="9360">
            <a:solidFill>
              <a:srgbClr val="f8f8f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ris Valente                              Silsis- Mi, AEEE-Italia 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5c7c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f8f8"/>
                </a:solidFill>
                <a:latin typeface="Arial"/>
              </a:rPr>
              <a:t>Finalità Insegnamento SES</a:t>
            </a: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7570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Verdana"/>
              </a:rPr>
              <a:t>formazione del cittadino</a:t>
            </a: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Verdana"/>
              </a:rPr>
              <a:t>conoscenze e competenze  fondamentali</a:t>
            </a: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Verdana"/>
              </a:rPr>
              <a:t>inserimento realtà sociale e professionale </a:t>
            </a: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8596440" y="6308640"/>
            <a:ext cx="547560" cy="549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ris Valente                              Silsis- Mi, AEEE-Italia 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5c7c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f8f8"/>
                </a:solidFill>
                <a:latin typeface="Arial"/>
              </a:rPr>
              <a:t>Metodologie</a:t>
            </a: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6130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Verdana"/>
              </a:rPr>
              <a:t>costruzione di saperi 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Verdana"/>
              </a:rPr>
              <a:t>partecipazione attiva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Verdana"/>
              </a:rPr>
              <a:t>acquisizione di uno spirito critico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8610480" y="6324480"/>
            <a:ext cx="533520" cy="52092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948360" y="2924280"/>
            <a:ext cx="1481400" cy="1433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ris Valente                              Silsis- Mi, AEEE-Italia 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5c7c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f8f8"/>
                </a:solidFill>
                <a:latin typeface="Arial"/>
              </a:rPr>
              <a:t>Metodologie didattiche</a:t>
            </a: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8f8f8"/>
                </a:solidFill>
                <a:latin typeface="Verdana"/>
              </a:rPr>
              <a:t>analisi documenti (SES)</a:t>
            </a: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8f8f8"/>
                </a:solidFill>
                <a:latin typeface="Verdana"/>
              </a:rPr>
              <a:t>inchieste  sul territorio  (STG)</a:t>
            </a: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8f8f8"/>
                </a:solidFill>
                <a:latin typeface="Verdana"/>
              </a:rPr>
              <a:t>visite d’impresa (STG)</a:t>
            </a: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8f8f8"/>
                </a:solidFill>
                <a:latin typeface="Verdana"/>
              </a:rPr>
              <a:t>largo uso TIC (STG)</a:t>
            </a: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8f8f8"/>
                </a:solidFill>
                <a:latin typeface="Verdana"/>
              </a:rPr>
              <a:t>cooperative  learning </a:t>
            </a: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8f8f8"/>
                </a:solidFill>
                <a:latin typeface="Verdana"/>
              </a:rPr>
              <a:t>lavoro in piccoli gruppi e individuali </a:t>
            </a: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ris Valente                              Silsis- Mi, AEEE-Italia 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5c7c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1ddd4"/>
                </a:solidFill>
                <a:latin typeface="Arial"/>
              </a:rPr>
              <a:t>SISTEMA SCOLASTICO TEDESCO</a:t>
            </a:r>
            <a:endParaRPr b="0" lang="en-US" sz="40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8f8f8"/>
                </a:solidFill>
                <a:latin typeface="Verdana"/>
              </a:rPr>
              <a:t> </a:t>
            </a:r>
            <a:r>
              <a:rPr b="0" lang="it-IT" sz="3200" spc="-1" strike="noStrike">
                <a:solidFill>
                  <a:srgbClr val="f8f8f8"/>
                </a:solidFill>
                <a:latin typeface="Verdana"/>
              </a:rPr>
              <a:t>sistema complesso 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8f8f8"/>
                </a:solidFill>
                <a:latin typeface="Verdana"/>
              </a:rPr>
              <a:t>Competenza per Lander ma con struttura comune 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8f8f8"/>
                </a:solidFill>
                <a:latin typeface="Verdana"/>
              </a:rPr>
              <a:t>        </a:t>
            </a:r>
            <a:r>
              <a:rPr b="0" lang="it-IT" sz="3200" spc="-1" strike="noStrike">
                <a:solidFill>
                  <a:srgbClr val="f8f8f8"/>
                </a:solidFill>
                <a:latin typeface="Verdana"/>
              </a:rPr>
              <a:t>Hautschule    professionale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8f8f8"/>
                </a:solidFill>
                <a:latin typeface="Verdana"/>
              </a:rPr>
              <a:t>        </a:t>
            </a:r>
            <a:r>
              <a:rPr b="0" lang="it-IT" sz="3200" spc="-1" strike="noStrike">
                <a:solidFill>
                  <a:srgbClr val="f8f8f8"/>
                </a:solidFill>
                <a:latin typeface="Verdana"/>
              </a:rPr>
              <a:t>Realschule     tecnico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8f8f8"/>
                </a:solidFill>
                <a:latin typeface="Verdana"/>
              </a:rPr>
              <a:t>        </a:t>
            </a:r>
            <a:r>
              <a:rPr b="0" lang="it-IT" sz="3200" spc="-1" strike="noStrike">
                <a:solidFill>
                  <a:srgbClr val="f8f8f8"/>
                </a:solidFill>
                <a:latin typeface="Verdana"/>
              </a:rPr>
              <a:t>Gymnasium   generalista 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27" name=""/>
          <p:cNvSpPr/>
          <p:nvPr/>
        </p:nvSpPr>
        <p:spPr>
          <a:xfrm>
            <a:off x="1116000" y="4076640"/>
            <a:ext cx="144360" cy="1440000"/>
          </a:xfrm>
          <a:custGeom>
            <a:avLst/>
            <a:gdLst>
              <a:gd name="textAreaLeft" fmla="*/ 42480 w 144360"/>
              <a:gd name="textAreaRight" fmla="*/ 144360 w 144360"/>
              <a:gd name="textAreaTop" fmla="*/ 59760 h 1440000"/>
              <a:gd name="textAreaBottom" fmla="*/ 1380240 h 144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5724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ris Valente                              Silsis- Mi, AEEE-Italia 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5c7c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f8f8"/>
                </a:solidFill>
                <a:latin typeface="Arial"/>
              </a:rPr>
              <a:t>METODOLOGIE DIDATTICHE</a:t>
            </a: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Verdana"/>
              </a:rPr>
              <a:t>raccolta, elaborazione, analisi dati 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Verdana"/>
              </a:rPr>
              <a:t>lavoro su documenti (a stampa, audiovisivi, informatici)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Verdana"/>
              </a:rPr>
              <a:t>produzione sintesi, argomentazioni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ris Valente                              Silsis- Mi, AEEE-Italia 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5c7c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f8f8"/>
                </a:solidFill>
                <a:latin typeface="Arial"/>
              </a:rPr>
              <a:t>INSEGNAMENTO SES</a:t>
            </a: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900000" y="1482840"/>
            <a:ext cx="77058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8f8f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8f8f8"/>
                </a:solidFill>
                <a:latin typeface="Verdana"/>
              </a:rPr>
              <a:t>è basato su osservazione fatti economici e sociali 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8f8f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8f8f8"/>
                </a:solidFill>
                <a:latin typeface="Verdana"/>
              </a:rPr>
              <a:t>è guidato da ragionamenti teorici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8f8f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8f8f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8f8f8"/>
                </a:solidFill>
                <a:latin typeface="Verdana"/>
              </a:rPr>
              <a:t>è centrato su saperi accademici 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8f8f8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8f8f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8f8f8"/>
                </a:solidFill>
                <a:latin typeface="Verdana"/>
              </a:rPr>
              <a:t>ha carattere pluridisciplinare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8f8f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8596440" y="6308640"/>
            <a:ext cx="547560" cy="549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ris Valente                              Silsis- Mi, AEEE-Italia 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5c7c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8f8f8"/>
                </a:solidFill>
                <a:latin typeface="Arial"/>
              </a:rPr>
              <a:t>Indicazioni ministeriali ampie </a:t>
            </a:r>
            <a:br>
              <a:rPr sz="4000"/>
            </a:br>
            <a:endParaRPr b="0" lang="en-US" sz="40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Verdana"/>
              </a:rPr>
              <a:t>Finalità</a:t>
            </a: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Verdana"/>
              </a:rPr>
              <a:t>   </a:t>
            </a: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427640" y="1599840"/>
            <a:ext cx="44654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Verdana"/>
              </a:rPr>
              <a:t>Temi</a:t>
            </a: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Verdana"/>
              </a:rPr>
              <a:t>         </a:t>
            </a:r>
            <a:r>
              <a:rPr b="1" lang="en-US" sz="2800" spc="-1" strike="noStrike">
                <a:solidFill>
                  <a:srgbClr val="f8f8f8"/>
                </a:solidFill>
                <a:latin typeface="Verdana"/>
              </a:rPr>
              <a:t>Concetti </a:t>
            </a: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Verdana"/>
              </a:rPr>
              <a:t>Indicazioni complementari</a:t>
            </a: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240" name=""/>
          <p:cNvSpPr/>
          <p:nvPr/>
        </p:nvSpPr>
        <p:spPr>
          <a:xfrm>
            <a:off x="1196640" y="2997360"/>
            <a:ext cx="173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Verdana"/>
              </a:rPr>
              <a:t>Obiettivi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386440" y="5207040"/>
            <a:ext cx="43776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Verdana"/>
              </a:rPr>
              <a:t>sito </a:t>
            </a:r>
            <a:r>
              <a:rPr b="0" lang="en-US" sz="2000" spc="-1" strike="noStrike" u="sng">
                <a:solidFill>
                  <a:srgbClr val="86c0ce"/>
                </a:solidFill>
                <a:uFillTx/>
                <a:latin typeface="Verdana"/>
                <a:hlinkClick r:id="rId1"/>
              </a:rPr>
              <a:t>http://www.education.gouv.fr/</a:t>
            </a:r>
            <a:r>
              <a:rPr b="0" lang="en-US" sz="2000" spc="-1" strike="noStrike" u="sng">
                <a:solidFill>
                  <a:srgbClr val="f8f8f8"/>
                </a:solidFill>
                <a:uFillTx/>
                <a:latin typeface="Verdana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ris Valente                              Silsis- Mi, AEEE-Italia 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5c7c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8f8f8"/>
                </a:solidFill>
                <a:latin typeface="Arial"/>
              </a:rPr>
              <a:t>Scienze economiche e sociali (SES)</a:t>
            </a:r>
            <a:endParaRPr b="0" lang="en-US" sz="40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Verdana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Verdana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Verdana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Verdana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Verdana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Verdana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Verdana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Verdana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Verdana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Verdana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Verdana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1042920" y="1600200"/>
          <a:ext cx="7643880" cy="4578480"/>
        </p:xfrm>
        <a:graphic>
          <a:graphicData uri="http://schemas.openxmlformats.org/drawingml/2006/table">
            <a:tbl>
              <a:tblPr/>
              <a:tblGrid>
                <a:gridCol w="2548080"/>
                <a:gridCol w="2547720"/>
                <a:gridCol w="2548080"/>
              </a:tblGrid>
              <a:tr h="865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8f8f8"/>
                          </a:solidFill>
                          <a:latin typeface="Verdana"/>
                        </a:rPr>
                        <a:t>Seconde</a:t>
                      </a:r>
                      <a:endParaRPr b="0" lang="en-US" sz="2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1368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8f8f8"/>
                          </a:solidFill>
                          <a:latin typeface="Verdana"/>
                        </a:rPr>
                        <a:t>Première</a:t>
                      </a:r>
                      <a:endParaRPr b="0" lang="en-US" sz="2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1368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8f8f8"/>
                          </a:solidFill>
                          <a:latin typeface="Verdana"/>
                        </a:rPr>
                        <a:t>Terminale</a:t>
                      </a:r>
                      <a:endParaRPr b="0" lang="en-US" sz="2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13680">
                      <a:solidFill>
                        <a:srgbClr val="f8f8f8"/>
                      </a:solidFill>
                    </a:lnR>
                    <a:lnT w="1368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</a:tr>
              <a:tr h="1971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f8f8f8"/>
                          </a:solidFill>
                          <a:latin typeface="Verdana"/>
                        </a:rPr>
                        <a:t>2 h. (classe intera)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f8f8f8"/>
                          </a:solidFill>
                          <a:latin typeface="Verdana"/>
                        </a:rPr>
                        <a:t>+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f8f8f8"/>
                          </a:solidFill>
                          <a:latin typeface="Verdana"/>
                        </a:rPr>
                        <a:t>1 h. (classe sdoppiata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f8f8f8"/>
                          </a:solidFill>
                          <a:latin typeface="Verdana"/>
                        </a:rPr>
                        <a:t>4 h.(classe intera)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f8f8f8"/>
                          </a:solidFill>
                          <a:latin typeface="Verdana"/>
                        </a:rPr>
                        <a:t>+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f8f8f8"/>
                          </a:solidFill>
                          <a:latin typeface="Verdana"/>
                        </a:rPr>
                        <a:t>1 h. (classe sdoppiata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f8f8f8"/>
                          </a:solidFill>
                          <a:latin typeface="Verdana"/>
                        </a:rPr>
                        <a:t>4 h.(classe intera)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f8f8f8"/>
                          </a:solidFill>
                          <a:latin typeface="Verdana"/>
                        </a:rPr>
                        <a:t>+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f8f8f8"/>
                          </a:solidFill>
                          <a:latin typeface="Verdana"/>
                        </a:rPr>
                        <a:t>1 h. (classe sdoppiata)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1368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</a:tr>
              <a:tr h="1741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f8f8f8"/>
                          </a:solidFill>
                          <a:latin typeface="Verdana"/>
                        </a:rPr>
                        <a:t>Scelta opzionale?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1368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f8f8f8"/>
                          </a:solidFill>
                          <a:latin typeface="Verdana"/>
                        </a:rPr>
                        <a:t>Scelta opzionale 2 h.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1368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  <a:p>
                      <a:pPr lvl="1" marL="45720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f8f8f8"/>
                          </a:solidFill>
                          <a:latin typeface="Verdana"/>
                        </a:rPr>
                        <a:t>Scelta opzionale 2 h.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1368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13680">
                      <a:solidFill>
                        <a:srgbClr val="f8f8f8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8610480" y="6324480"/>
            <a:ext cx="533520" cy="520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ris Valente                              Silsis- Mi, AEEE-Italia 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5c7c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0" y="188280"/>
            <a:ext cx="813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4000" spc="-1" strike="noStrike">
                <a:solidFill>
                  <a:srgbClr val="f8f8f8"/>
                </a:solidFill>
                <a:latin typeface="Arial"/>
                <a:ea typeface="Times New Roman"/>
              </a:rPr>
              <a:t>Scelte studi superiori bac ES</a:t>
            </a:r>
            <a:endParaRPr b="0" lang="en-US" sz="4000" spc="-1" strike="noStrike">
              <a:solidFill>
                <a:srgbClr val="f8f8f8"/>
              </a:solidFill>
              <a:latin typeface="Arial"/>
            </a:endParaRPr>
          </a:p>
        </p:txBody>
      </p:sp>
      <p:graphicFrame>
        <p:nvGraphicFramePr>
          <p:cNvPr id="247" name=""/>
          <p:cNvGraphicFramePr/>
          <p:nvPr/>
        </p:nvGraphicFramePr>
        <p:xfrm>
          <a:off x="250920" y="1052640"/>
          <a:ext cx="8497800" cy="5589360"/>
        </p:xfrm>
        <a:graphic>
          <a:graphicData uri="http://schemas.openxmlformats.org/drawingml/2006/table">
            <a:tbl>
              <a:tblPr/>
              <a:tblGrid>
                <a:gridCol w="4732200"/>
                <a:gridCol w="3765600"/>
              </a:tblGrid>
              <a:tr h="1528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8f8f8"/>
                          </a:solidFill>
                          <a:latin typeface="Arial"/>
                          <a:ea typeface="Times New Roman"/>
                        </a:rPr>
                        <a:t>indirizzi scelti</a:t>
                      </a:r>
                      <a:endParaRPr b="0" lang="en-US" sz="24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8f8f8"/>
                          </a:solidFill>
                          <a:latin typeface="Arial"/>
                          <a:ea typeface="Times New Roman"/>
                        </a:rPr>
                        <a:t>% di maturi provenienti dal liceo ES</a:t>
                      </a:r>
                      <a:endParaRPr b="0" lang="en-US" sz="24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8f8f8"/>
                          </a:solidFill>
                          <a:latin typeface="Arial"/>
                          <a:ea typeface="Times New Roman"/>
                        </a:rPr>
                        <a:t>Università </a:t>
                      </a:r>
                      <a:endParaRPr b="0" lang="en-US" sz="24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8f8f8"/>
                          </a:solidFill>
                          <a:latin typeface="Arial"/>
                          <a:ea typeface="Times New Roman"/>
                        </a:rPr>
                        <a:t>60%</a:t>
                      </a:r>
                      <a:endParaRPr b="0" lang="en-US" sz="24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7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8f8f8"/>
                          </a:solidFill>
                          <a:latin typeface="Arial"/>
                          <a:ea typeface="Times New Roman"/>
                        </a:rPr>
                        <a:t>Diplomi professionali (BTS – DUT, 2 anni) </a:t>
                      </a:r>
                      <a:endParaRPr b="0" lang="en-US" sz="24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8f8f8"/>
                          </a:solidFill>
                          <a:latin typeface="Arial"/>
                          <a:ea typeface="Times New Roman"/>
                        </a:rPr>
                        <a:t>25%</a:t>
                      </a:r>
                      <a:endParaRPr b="0" lang="en-US" sz="24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8f8f8"/>
                          </a:solidFill>
                          <a:latin typeface="Arial"/>
                          <a:ea typeface="Times New Roman"/>
                        </a:rPr>
                        <a:t>Scuole di specializzazione</a:t>
                      </a:r>
                      <a:endParaRPr b="0" lang="en-US" sz="24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8f8f8"/>
                          </a:solidFill>
                          <a:latin typeface="Arial"/>
                          <a:ea typeface="Times New Roman"/>
                        </a:rPr>
                        <a:t>10%</a:t>
                      </a:r>
                      <a:endParaRPr b="0" lang="en-US" sz="24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7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f8f8f8"/>
                          </a:solidFill>
                          <a:latin typeface="Arial"/>
                          <a:ea typeface="Times New Roman"/>
                        </a:rPr>
                        <a:t>Classi preparatorie alle “</a:t>
                      </a:r>
                      <a:r>
                        <a:rPr b="0" i="1" lang="it-IT" sz="2400" spc="-1" strike="noStrike">
                          <a:solidFill>
                            <a:srgbClr val="f8f8f8"/>
                          </a:solidFill>
                          <a:latin typeface="Arial"/>
                          <a:ea typeface="Times New Roman"/>
                        </a:rPr>
                        <a:t>grandes écoles</a:t>
                      </a:r>
                      <a:r>
                        <a:rPr b="0" lang="it-IT" sz="2400" spc="-1" strike="noStrike">
                          <a:solidFill>
                            <a:srgbClr val="f8f8f8"/>
                          </a:solidFill>
                          <a:latin typeface="Arial"/>
                          <a:ea typeface="Times New Roman"/>
                        </a:rPr>
                        <a:t>” </a:t>
                      </a:r>
                      <a:endParaRPr b="0" lang="en-US" sz="24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8f8f8"/>
                          </a:solidFill>
                          <a:latin typeface="Arial"/>
                          <a:ea typeface="Times New Roman"/>
                        </a:rPr>
                        <a:t>5%</a:t>
                      </a:r>
                      <a:endParaRPr b="0" lang="en-US" sz="24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8" name=""/>
          <p:cNvSpPr/>
          <p:nvPr/>
        </p:nvSpPr>
        <p:spPr>
          <a:xfrm>
            <a:off x="0" y="4343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ris Valente                              Silsis- Mi, AEEE-Italia 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5c7c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4400" spc="-1" strike="noStrike">
                <a:solidFill>
                  <a:srgbClr val="f8f8f8"/>
                </a:solidFill>
                <a:latin typeface="Arial"/>
              </a:rPr>
              <a:t>Lycée ES</a:t>
            </a: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8f8f8"/>
                </a:solidFill>
                <a:latin typeface="Verdana"/>
              </a:rPr>
              <a:t>28% 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8f8f8"/>
                </a:solidFill>
                <a:latin typeface="Verdana"/>
              </a:rPr>
              <a:t>studenti dei licei generalisti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8f8f8"/>
                </a:solidFill>
                <a:latin typeface="Verdana"/>
              </a:rPr>
              <a:t>Polivalenza offerta formativa 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8f8f8"/>
                </a:solidFill>
                <a:latin typeface="Verdana"/>
              </a:rPr>
              <a:t>Buona preparazione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8f8f8"/>
                </a:solidFill>
                <a:latin typeface="Verdana"/>
              </a:rPr>
              <a:t>(accesso a indirizzi  fortemente selettivi all’entrata)</a:t>
            </a:r>
            <a:r>
              <a:rPr b="1" lang="it-IT" sz="2800" spc="-1" strike="noStrike">
                <a:solidFill>
                  <a:srgbClr val="f8f8f8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  <a:p>
            <a:pPr marL="339480" indent="-339480">
              <a:spcBef>
                <a:spcPts val="700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8f8f8"/>
                </a:solidFill>
                <a:latin typeface="Verdana"/>
              </a:rPr>
              <a:t>Buona reputazione nell’opinione pubblica</a:t>
            </a: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84720" y="2924280"/>
            <a:ext cx="0" cy="792000"/>
          </a:xfrm>
          <a:prstGeom prst="line">
            <a:avLst/>
          </a:prstGeom>
          <a:ln w="9360">
            <a:solidFill>
              <a:srgbClr val="f8f8f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ris Valente                              Silsis- Mi, AEEE-Italia 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5c7c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f8f8"/>
                </a:solidFill>
                <a:latin typeface="Arial"/>
              </a:rPr>
              <a:t>PUNTI DI FORZA</a:t>
            </a: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8f8f8"/>
                </a:solidFill>
                <a:latin typeface="Verdana"/>
              </a:rPr>
              <a:t>1. Cultura generale polivalente </a:t>
            </a: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8f8f8"/>
                </a:solidFill>
                <a:latin typeface="Verdana"/>
              </a:rPr>
              <a:t>nelle</a:t>
            </a: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8f8f8"/>
                </a:solidFill>
                <a:latin typeface="Verdana"/>
              </a:rPr>
              <a:t>tre aree disciplinari</a:t>
            </a: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8f8f8"/>
                </a:solidFill>
                <a:latin typeface="Verdana"/>
              </a:rPr>
              <a:t>scienze sociali e umane </a:t>
            </a:r>
            <a:endParaRPr b="0" lang="en-US" sz="24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8f8f8"/>
                </a:solidFill>
                <a:latin typeface="Verdana"/>
              </a:rPr>
              <a:t>(SES, storia, geografia, filosofia)</a:t>
            </a:r>
            <a:endParaRPr b="0" lang="en-US" sz="2400" spc="-1" strike="noStrike">
              <a:solidFill>
                <a:srgbClr val="f8f8f8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8f8f8"/>
                </a:solidFill>
                <a:latin typeface="Verdana"/>
              </a:rPr>
              <a:t>lettere e lingue</a:t>
            </a:r>
            <a:endParaRPr b="0" lang="en-US" sz="2400" spc="-1" strike="noStrike">
              <a:solidFill>
                <a:srgbClr val="f8f8f8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8f8f8"/>
                </a:solidFill>
                <a:latin typeface="Verdana"/>
              </a:rPr>
              <a:t>matematica e scienze della natura </a:t>
            </a:r>
            <a:endParaRPr b="0" lang="en-US" sz="2400" spc="-1" strike="noStrike">
              <a:solidFill>
                <a:srgbClr val="f8f8f8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8f8f8"/>
                </a:solidFill>
                <a:latin typeface="Verdana"/>
              </a:rPr>
              <a:t>2. Approfondimento </a:t>
            </a: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8f8f8"/>
                </a:solidFill>
                <a:latin typeface="Verdana"/>
              </a:rPr>
              <a:t>opzionalità obbligatoria</a:t>
            </a:r>
            <a:r>
              <a:rPr b="0" lang="it-IT" sz="2400" spc="-1" strike="noStrike">
                <a:solidFill>
                  <a:srgbClr val="f8f8f8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ris Valente                              Silsis- Mi, AEEE-Italia 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5c7c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f8f8"/>
                </a:solidFill>
                <a:latin typeface="Arial"/>
              </a:rPr>
              <a:t>PUNTI DI FORZA</a:t>
            </a: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78920" y="1483920"/>
            <a:ext cx="84250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8f8f8"/>
                </a:solidFill>
                <a:latin typeface="Verdana"/>
              </a:rPr>
              <a:t>formazione liceale            terza cultura</a:t>
            </a: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8f8f8"/>
                </a:solidFill>
                <a:latin typeface="Verdana"/>
              </a:rPr>
              <a:t>innalzamento           livello competenze</a:t>
            </a: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8f8f8"/>
                </a:solidFill>
                <a:latin typeface="Verdana"/>
              </a:rPr>
              <a:t>                                 </a:t>
            </a:r>
            <a:r>
              <a:rPr b="1" lang="it-IT" sz="2800" spc="-1" strike="noStrike">
                <a:solidFill>
                  <a:srgbClr val="f8f8f8"/>
                </a:solidFill>
                <a:latin typeface="Verdana"/>
              </a:rPr>
              <a:t>giovani francesi</a:t>
            </a: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8f8f8"/>
                </a:solidFill>
                <a:latin typeface="Verdana"/>
              </a:rPr>
              <a:t>aumento numero giovani licealizzati</a:t>
            </a: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8f8f8"/>
                </a:solidFill>
                <a:latin typeface="Verdana"/>
              </a:rPr>
              <a:t>                                                          </a:t>
            </a: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8f8f8"/>
                </a:solidFill>
                <a:latin typeface="Verdana"/>
              </a:rPr>
              <a:t>       </a:t>
            </a:r>
            <a:r>
              <a:rPr b="1" lang="it-IT" sz="2800" spc="-1" strike="noStrike">
                <a:solidFill>
                  <a:srgbClr val="f8f8f8"/>
                </a:solidFill>
                <a:latin typeface="Verdana"/>
              </a:rPr>
              <a:t>democratizzazione liceo</a:t>
            </a:r>
            <a:r>
              <a:rPr b="0" lang="it-IT" sz="2800" spc="-1" strike="noStrike">
                <a:solidFill>
                  <a:srgbClr val="f8f8f8"/>
                </a:solidFill>
                <a:latin typeface="Verdana"/>
              </a:rPr>
              <a:t>  </a:t>
            </a: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256" name=""/>
          <p:cNvSpPr/>
          <p:nvPr/>
        </p:nvSpPr>
        <p:spPr>
          <a:xfrm>
            <a:off x="4140360" y="1844640"/>
            <a:ext cx="936360" cy="0"/>
          </a:xfrm>
          <a:prstGeom prst="line">
            <a:avLst/>
          </a:prstGeom>
          <a:ln w="9360">
            <a:solidFill>
              <a:srgbClr val="f8f8f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203640" y="2708280"/>
            <a:ext cx="934920" cy="0"/>
          </a:xfrm>
          <a:prstGeom prst="line">
            <a:avLst/>
          </a:prstGeom>
          <a:ln w="9360">
            <a:solidFill>
              <a:srgbClr val="f8f8f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4500360" y="4508640"/>
            <a:ext cx="1655640" cy="720720"/>
          </a:xfrm>
          <a:prstGeom prst="line">
            <a:avLst/>
          </a:prstGeom>
          <a:ln w="9360">
            <a:solidFill>
              <a:srgbClr val="f8f8f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ris Valente                              Silsis- Mi, AEEE-Italia 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5c7c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f8f8"/>
                </a:solidFill>
                <a:latin typeface="Arial"/>
              </a:rPr>
              <a:t>PUNTI DI FORZA</a:t>
            </a:r>
            <a:r>
              <a:rPr b="0" lang="en-US" sz="4400" spc="-1" strike="noStrike">
                <a:solidFill>
                  <a:srgbClr val="d1ddd4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0" y="1557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>
                <a:solidFill>
                  <a:srgbClr val="f8f8f8"/>
                </a:solidFill>
                <a:latin typeface="Verdana"/>
              </a:rPr>
              <a:t>prospettiva metodologica costruttivista</a:t>
            </a:r>
            <a:r>
              <a:rPr b="1" lang="it-IT" sz="3200" spc="-1" strike="noStrike">
                <a:solidFill>
                  <a:srgbClr val="f8f8f8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8f8f8"/>
                </a:solidFill>
                <a:latin typeface="Verdana"/>
              </a:rPr>
              <a:t>Pratiche didattiche</a:t>
            </a:r>
            <a:r>
              <a:rPr b="0" lang="it-IT" sz="3200" spc="-1" strike="noStrike">
                <a:solidFill>
                  <a:srgbClr val="f8f8f8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8f8f8"/>
                </a:solidFill>
                <a:latin typeface="Verdana"/>
              </a:rPr>
              <a:t>finalizzate a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8f8f8"/>
                </a:solidFill>
                <a:latin typeface="Verdana"/>
              </a:rPr>
              <a:t>capacità riflessiva 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8f8f8"/>
                </a:solidFill>
                <a:latin typeface="Verdana"/>
              </a:rPr>
              <a:t>presa di distanza metacognitiva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8f8f8"/>
                </a:solidFill>
                <a:latin typeface="Verdana"/>
              </a:rPr>
              <a:t>costruzione saperi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ris Valente                              Silsis- Mi, AEEE-Italia 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5c7c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f8f8"/>
                </a:solidFill>
                <a:latin typeface="Arial"/>
              </a:rPr>
              <a:t>PUNTI DI FORZA</a:t>
            </a: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>
                <a:solidFill>
                  <a:srgbClr val="f8f8f8"/>
                </a:solidFill>
                <a:latin typeface="Verdana"/>
              </a:rPr>
              <a:t>il taglio pluridisciplinare</a:t>
            </a:r>
            <a:r>
              <a:rPr b="1" lang="it-IT" sz="3200" spc="-1" strike="noStrike">
                <a:solidFill>
                  <a:srgbClr val="f8f8f8"/>
                </a:solidFill>
                <a:latin typeface="Verdana"/>
              </a:rPr>
              <a:t> proposto come metodo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>
                <a:solidFill>
                  <a:srgbClr val="f8f8f8"/>
                </a:solidFill>
                <a:latin typeface="Verdana"/>
              </a:rPr>
              <a:t>le metodologie didattiche attive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ris Valente                              Silsis- Mi, AEEE-Italia 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5c7c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1ddd4"/>
                </a:solidFill>
                <a:latin typeface="Arial"/>
              </a:rPr>
              <a:t>SISTEMA SCOLASTICO TEDESCO</a:t>
            </a:r>
            <a:endParaRPr b="0" lang="en-US" sz="40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8f8f8"/>
                </a:solidFill>
                <a:latin typeface="Verdana"/>
              </a:rPr>
              <a:t>Dopo 16 anni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8f8f8"/>
                </a:solidFill>
                <a:latin typeface="Verdana"/>
              </a:rPr>
              <a:t>Gymnasium (20 anni)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8f8f8"/>
                </a:solidFill>
                <a:latin typeface="Verdana"/>
              </a:rPr>
              <a:t>Formazione professionale (18 anni)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8f8f8"/>
                </a:solidFill>
                <a:latin typeface="Verdana"/>
              </a:rPr>
              <a:t>Sistema duale  (16 anni o 18 anni) 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ris Valente                              Silsis- Mi, AEEE-Italia 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5c7c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8f8f8"/>
                </a:solidFill>
                <a:latin typeface="Arial"/>
              </a:rPr>
              <a:t>Conclusioni</a:t>
            </a: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Verdana"/>
              </a:rPr>
              <a:t>Da queste esperienze 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Verdana"/>
              </a:rPr>
              <a:t>possiamo trarre utili spunti 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Verdana"/>
              </a:rPr>
              <a:t>per chi ha il compito di 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Verdana"/>
              </a:rPr>
              <a:t>ripensare il sistema dei licei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Verdana"/>
              </a:rPr>
              <a:t>ipotizzando la costituzione 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Verdana"/>
              </a:rPr>
              <a:t>di un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Verdana"/>
              </a:rPr>
              <a:t>liceo economico</a:t>
            </a: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ris Valente                              Silsis- Mi, AEEE-Italia 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5c7c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1ddd4"/>
                </a:solidFill>
                <a:latin typeface="Arial"/>
              </a:rPr>
              <a:t>SISTEMA SCOLASTICO TEDESCO</a:t>
            </a:r>
            <a:endParaRPr b="0" lang="en-US" sz="40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63716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8f8f8"/>
                </a:solidFill>
                <a:latin typeface="Verdana"/>
              </a:rPr>
              <a:t>Molto accentuata la differenziazione dei percorsi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8f8f8"/>
                </a:solidFill>
                <a:latin typeface="Verdana"/>
              </a:rPr>
              <a:t>Realschule e Hautpschule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8f8f8"/>
                </a:solidFill>
                <a:latin typeface="Verdana"/>
              </a:rPr>
              <a:t>formazione con tirocinio in azienda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8f8f8"/>
                </a:solidFill>
                <a:latin typeface="Verdana"/>
              </a:rPr>
              <a:t>contratto di formazione-lavoro (a 18 anni)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8f8f8"/>
                </a:solidFill>
                <a:latin typeface="Verdana"/>
              </a:rPr>
              <a:t>SISTEMA DUALE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8f8f8"/>
                </a:solidFill>
                <a:latin typeface="Verdana"/>
              </a:rPr>
              <a:t>Alternanza Scuola-Lavoro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ris Valente                              Silsis- Mi, AEEE-Italia 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5c7c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d1ddd4"/>
                </a:solidFill>
                <a:latin typeface="Arial"/>
              </a:rPr>
              <a:t>L’insegnamento dell’economia </a:t>
            </a:r>
            <a:br>
              <a:rPr sz="3400"/>
            </a:br>
            <a:r>
              <a:rPr b="1" lang="en-US" sz="3400" spc="-1" strike="noStrike">
                <a:solidFill>
                  <a:srgbClr val="d1ddd4"/>
                </a:solidFill>
                <a:latin typeface="Arial"/>
              </a:rPr>
              <a:t>Germania</a:t>
            </a:r>
            <a:endParaRPr b="0" lang="en-US" sz="3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78920" y="1628640"/>
            <a:ext cx="8363160" cy="450216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f8f8f8"/>
                </a:solidFill>
                <a:latin typeface="Verdana"/>
              </a:rPr>
              <a:t>Modelli differenziati per tipologia di scuola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Verdana"/>
              </a:rPr>
              <a:t>Temi economici 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Verdana"/>
              </a:rPr>
              <a:t>Finalità educativa: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Verdana"/>
              </a:rPr>
              <a:t>formazione del cittadino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Verdana"/>
              </a:rPr>
              <a:t>educazione del consumatore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Verdana"/>
              </a:rPr>
              <a:t>Finalità professionali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ris Valente                              Silsis- Mi, AEEE-Italia 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5c7c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1ddd4"/>
                </a:solidFill>
                <a:latin typeface="Arial"/>
              </a:rPr>
              <a:t>SISTEMA SCOLASTICO INGLESE</a:t>
            </a:r>
            <a:endParaRPr b="0" lang="en-US" sz="40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Verdana"/>
              </a:rPr>
              <a:t>Dal 1988  Curriculum Nazionale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Verdana"/>
              </a:rPr>
              <a:t>Programmazione precisa di: 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Verdana"/>
              </a:rPr>
              <a:t>Obiettivi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Verdana"/>
              </a:rPr>
              <a:t>Conoscenze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Verdana"/>
              </a:rPr>
              <a:t>Competenze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Verdana"/>
              </a:rPr>
              <a:t>capacità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36" name=""/>
          <p:cNvSpPr/>
          <p:nvPr/>
        </p:nvSpPr>
        <p:spPr>
          <a:xfrm>
            <a:off x="5364000" y="2781360"/>
            <a:ext cx="2519640" cy="302220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8f8f8"/>
                </a:solidFill>
                <a:latin typeface="Verdana"/>
              </a:rPr>
              <a:t>CERTIFICAZIONI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8f8f8"/>
                </a:solidFill>
                <a:latin typeface="Verdana"/>
              </a:rPr>
              <a:t>GCSE 16 anni 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8f8f8"/>
                </a:solidFill>
                <a:latin typeface="Verdana"/>
              </a:rPr>
              <a:t>GCE A level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8f8f8"/>
                </a:solidFill>
                <a:latin typeface="Verdana"/>
              </a:rPr>
              <a:t>GCE AS level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8f8f8"/>
                </a:solidFill>
                <a:latin typeface="Verdana"/>
              </a:rPr>
              <a:t>NVQS level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8f8f8"/>
                </a:solidFill>
                <a:latin typeface="Verdana"/>
              </a:rPr>
              <a:t>15 indirizzi professionali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ris Valente                              Silsis- Mi, AEEE-Italia 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5c7c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d1ddd4"/>
                </a:solidFill>
                <a:latin typeface="Arial"/>
              </a:rPr>
              <a:t>L’insegnamento dell’economia </a:t>
            </a:r>
            <a:br>
              <a:rPr sz="3400"/>
            </a:br>
            <a:r>
              <a:rPr b="0" lang="en-US" sz="3400" spc="-1" strike="noStrike">
                <a:solidFill>
                  <a:srgbClr val="d1ddd4"/>
                </a:solidFill>
                <a:latin typeface="Arial"/>
              </a:rPr>
              <a:t>Gran Bretagna</a:t>
            </a:r>
            <a:endParaRPr b="0" lang="en-US" sz="3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24000" y="1412640"/>
            <a:ext cx="8229600" cy="453060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8f8f8"/>
                </a:solidFill>
                <a:latin typeface="Verdana"/>
              </a:rPr>
              <a:t> </a:t>
            </a:r>
            <a:r>
              <a:rPr b="1" lang="it-IT" sz="2800" spc="-1" strike="noStrike">
                <a:solidFill>
                  <a:srgbClr val="f8f8f8"/>
                </a:solidFill>
                <a:latin typeface="Verdana"/>
              </a:rPr>
              <a:t>GCE A–level  3 discipline a scelta</a:t>
            </a: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8f8f8"/>
                </a:solidFill>
                <a:latin typeface="Verdana"/>
              </a:rPr>
              <a:t>Economics</a:t>
            </a: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8f8f8"/>
                </a:solidFill>
                <a:latin typeface="Verdana"/>
              </a:rPr>
              <a:t>Business</a:t>
            </a: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8f8f8"/>
                </a:solidFill>
                <a:latin typeface="Verdana"/>
              </a:rPr>
              <a:t>Economics and Business</a:t>
            </a: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8f8f8"/>
                </a:solidFill>
                <a:latin typeface="Verdana"/>
              </a:rPr>
              <a:t>Vasta gamma di metodi</a:t>
            </a: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8f8f8"/>
                </a:solidFill>
                <a:latin typeface="Verdana"/>
              </a:rPr>
              <a:t>             </a:t>
            </a:r>
            <a:r>
              <a:rPr b="1" lang="it-IT" sz="2800" spc="-1" strike="noStrike">
                <a:solidFill>
                  <a:srgbClr val="f8f8f8"/>
                </a:solidFill>
                <a:latin typeface="Verdana"/>
              </a:rPr>
              <a:t>attivi</a:t>
            </a: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8f8f8"/>
                </a:solidFill>
                <a:latin typeface="Verdana"/>
              </a:rPr>
              <a:t>     </a:t>
            </a:r>
            <a:r>
              <a:rPr b="1" lang="it-IT" sz="2800" spc="-1" strike="noStrike">
                <a:solidFill>
                  <a:srgbClr val="f8f8f8"/>
                </a:solidFill>
                <a:latin typeface="Verdana"/>
              </a:rPr>
              <a:t>Corsi preparatori</a:t>
            </a:r>
            <a:r>
              <a:rPr b="0" lang="it-IT" sz="2800" spc="-1" strike="noStrike">
                <a:solidFill>
                  <a:srgbClr val="f8f8f8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6443640" y="2924280"/>
            <a:ext cx="1943280" cy="163116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Verdana"/>
              </a:rPr>
              <a:t>Ogni disciplina: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8f8f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Verdana"/>
              </a:rPr>
              <a:t>2 esami scritti 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8f8f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Verdana"/>
              </a:rPr>
              <a:t>1 ricerca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5003640" y="4581000"/>
            <a:ext cx="1152720" cy="792360"/>
          </a:xfrm>
          <a:prstGeom prst="line">
            <a:avLst/>
          </a:prstGeom>
          <a:ln w="38160">
            <a:solidFill>
              <a:srgbClr val="f8f8f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ris Valente                              Silsis- Mi, AEEE-Italia 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5c7c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d1ddd4"/>
                </a:solidFill>
                <a:latin typeface="Arial"/>
              </a:rPr>
              <a:t>L’insegnamento dell’economia </a:t>
            </a:r>
            <a:br>
              <a:rPr sz="3400"/>
            </a:br>
            <a:r>
              <a:rPr b="1" lang="en-US" sz="3400" spc="-1" strike="noStrike">
                <a:solidFill>
                  <a:srgbClr val="d1ddd4"/>
                </a:solidFill>
                <a:latin typeface="Arial"/>
              </a:rPr>
              <a:t>Gran Bretagna</a:t>
            </a:r>
            <a:endParaRPr b="0" lang="en-US" sz="3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0" y="1557000"/>
            <a:ext cx="8532720" cy="453060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Verdana"/>
              </a:rPr>
              <a:t>Finalità</a:t>
            </a: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Verdana"/>
              </a:rPr>
              <a:t>sviluppare </a:t>
            </a: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Verdana"/>
              </a:rPr>
              <a:t>“</a:t>
            </a:r>
            <a:r>
              <a:rPr b="1" lang="en-US" sz="2800" spc="-1" strike="noStrike">
                <a:solidFill>
                  <a:srgbClr val="f8f8f8"/>
                </a:solidFill>
                <a:latin typeface="Verdana"/>
              </a:rPr>
              <a:t>saperi” e “saper fare” </a:t>
            </a: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Verdana"/>
              </a:rPr>
              <a:t>concetti e metodi </a:t>
            </a: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Verdana"/>
              </a:rPr>
              <a:t>coscienza critica sull’ambiente economico e aziendale</a:t>
            </a: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Verdana"/>
              </a:rPr>
              <a:t>saper distinguere fatti da opinioni</a:t>
            </a: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Verdana"/>
              </a:rPr>
              <a:t>sviluppare uno spirito di ricerca</a:t>
            </a: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43" name=""/>
          <p:cNvSpPr/>
          <p:nvPr/>
        </p:nvSpPr>
        <p:spPr>
          <a:xfrm>
            <a:off x="4298040" y="1628640"/>
            <a:ext cx="398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8f8f8"/>
                </a:solidFill>
                <a:latin typeface="Verdana"/>
              </a:rPr>
              <a:t>Economics   Econ Business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5148360" y="2133720"/>
            <a:ext cx="936360" cy="503280"/>
          </a:xfrm>
          <a:prstGeom prst="line">
            <a:avLst/>
          </a:prstGeom>
          <a:ln w="57240">
            <a:solidFill>
              <a:srgbClr val="f8f8f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4788000" y="2205000"/>
            <a:ext cx="2303280" cy="1008000"/>
          </a:xfrm>
          <a:prstGeom prst="line">
            <a:avLst/>
          </a:prstGeom>
          <a:ln w="57240">
            <a:solidFill>
              <a:srgbClr val="f8f8f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ris Valente                              Silsis- Mi, AEEE-Italia 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8T21:34:08Z</dcterms:created>
  <dc:creator>Franco</dc:creator>
  <dc:description/>
  <dc:language>en-US</dc:language>
  <cp:lastModifiedBy>CASTROVILLI ENRICO</cp:lastModifiedBy>
  <dcterms:modified xsi:type="dcterms:W3CDTF">2005-04-27T17:06:39Z</dcterms:modified>
  <cp:revision>57</cp:revision>
  <dc:subject/>
  <dc:title>IL LICEO ECONOMICO FRANCESE</dc:title>
</cp:coreProperties>
</file>