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1AD-1F72-485A-93E5-21CF1CD7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C0E-2CB7-4159-B1F3-4928E1EC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9F9-01BF-4263-B1DE-91B85188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D0A-6FF2-4E42-9F1C-227E1DBD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8E9-791E-49A8-AB5D-CA55D3B8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D59-39E3-4994-B74A-3E5A87A3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352-0093-4706-805A-E3E452E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097-03C7-45D5-8A27-4653D318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1A2-3B74-4F81-817F-4227950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1E9-7B85-4783-995F-D591EFAA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EF0-7874-4580-8BE9-CE10F17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65C-9DFE-47C0-A076-9CD41EF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0CE9-258E-4A43-A217-F1C2B36F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68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2F93-763D-486C-95A7-195137B1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lano,  5  Novemb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848-B73E-4DC0-8EFD-3B572A82F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457200" y="228600"/>
          <a:ext cx="137160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8600"/>
                    <a:ext cx="13716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09600" y="1600200"/>
            <a:ext cx="687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za  Conferenza Nazionale AEEE-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A DELLA CONOSCENZ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OSCENZA DELL’EC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ovi impegni e risorse per la valorizzazione d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oscenze nelle imprese: il distretto formativo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19920" y="510552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ano,  5 Novembre 2004 -   Università Bocc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62320" y="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ovi impegni e risorse per l’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opera in una logica di distr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lcuni esem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664000" y="1517760"/>
          <a:ext cx="5960880" cy="54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1517760"/>
                    <a:ext cx="5960880" cy="54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590920" y="1447920"/>
            <a:ext cx="594360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4479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360" y="1143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G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8560" y="1143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9718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0384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029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iluppo economico ed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160" y="2590920"/>
            <a:ext cx="879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 avanzati di produzione,di scambio ed in general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o richiedono per le loro caratteristiche di dinamicità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zione una capacità diffusa di apprendimento e di gov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a conosc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533520"/>
            <a:ext cx="60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ntesto dell’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endimento formale : es. Scuola, Università, 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endimento non formale :es. Corsi esterni (intenziona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endimento informale : dall’esperienza dir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6680" y="3886200"/>
            <a:ext cx="8811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uni dati di fat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cuola  non è  più così cent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zione aziendale non è “riconosciuta” all’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ssità nella valutazione dei processi di 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ati sull’esperienza.(peraltro tali processi  cominciano ad ess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onosciuti  anche dal sistema “formale” vedi ad esempio: art. 4 L. 53/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457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tti sui sistemi form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133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resciuto valore della conosc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200" y="411480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zione dei diver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biti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41400" y="4191120"/>
            <a:ext cx="43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o e collabor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 chi produce 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chi la utilizza(cliente-forni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04760" y="2666880"/>
            <a:ext cx="2514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2286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7480" y="56386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ONOSCIBI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4520" y="38088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menti per l’integrazion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iliera f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’organizzazione dei percors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440" y="1981080"/>
            <a:ext cx="71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modalità sperimentate nella costituzione di una filiera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4840" y="2666880"/>
            <a:ext cx="84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re dalle esigenze concrete di un settore,di un polo tecn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5040" y="3200400"/>
            <a:ext cx="88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zare un sistema di passerelle tra i vari canali e percorsi forma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862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ttare il sistema dei crediti per il riconoscimento d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rienze di studio e di lavo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760" y="4572000"/>
            <a:ext cx="80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izzare un’offerta comune integrata, trasparente,ori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mercato de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2160" y="5497560"/>
            <a:ext cx="51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re gli accessi alla 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4160" y="38088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menti per l’integrazion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iliera formati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80" y="1905120"/>
            <a:ext cx="91123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filiera formativa integra una pluralità di opportunità formativ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uole di base, istituti tecnici, istituti professionali, centri di form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fessionale, corsi di formazione tecnica superiore, corsi universit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fessionalizzanti, cors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entri di educazione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petto al passato la filiera formativa si è articolata, ha integrato nu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portunità di offerta prima inesist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9720" y="1752480"/>
            <a:ext cx="748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distretto formativo è un sistema educativo locale caratterizz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una doppia integr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4160" y="45720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menti per l’integrazion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distretto form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3960" y="2830680"/>
            <a:ext cx="77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'integrazione verticale, costituita da una filiera f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rado di rispondere ai fabbisogni di formazione inizia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 e ricorrente lungo tutto l’arco della 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560" y="4354560"/>
            <a:ext cx="79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'integrazione orizzontale nel territorio di riferimento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istemi produttivi locali, con il mercato del lavoro, con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orse culturali, con gli Enti locali,con il sistema della ricer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4572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uni  esempi tratti dalle esperienze di   Assolomb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143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li d’intesa, accordi con :Regione Lombard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ncia di Milano,Ufficio Scolastico Regionale pe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mbardia , Università su specifici progetti di miglioramento della scuola(Sistema qualità,Valutazione, Orientamento al mondo del lavo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2120" y="2627280"/>
            <a:ext cx="89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oinvolgimento di CFP,Scuole,Università,Enti privati di formazione nella costit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nel consolidamento di alcune filiere formative(ICT; Chimici,Alimentari, turistico ec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429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 sperimentazione di percorsi in alternanza scuola-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680" y="4075200"/>
            <a:ext cx="68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 sperimentazione di Unità Formative per lo sviluppo nell’amb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li insegnamenti disciplinari di alcune competenze trasvers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llaborazione con le Imprese e le Università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0" y="5334120"/>
            <a:ext cx="87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pplicazione e la sperimentazione  di uno strumento di rilevazione   dell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ze (mappa delle competenze) in  vari  contesti (scuola,impresa,universit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057400"/>
            <a:ext cx="883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oget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GA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rs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ecutive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o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ndale 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lupp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anizzativo) nasce su iniziativa del MIP - Politecnico di Milano e di Assolombard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ogramma PEGASO prevede l'attivazione di percorsi formativi flessibili e personalizzabili, studiati con le aziende per supportare processi di crescita e potenziamento manageriale, preparando i partecipanti, tipicamente giovani ad alto potenziale, ad assumere responsabilità di rilievo. I progetti sul campo rappresentano parte integrante del processo di apprendimento, vi è la possibilità di acquisire crediti formativi assegnati dal MIP - Politecnico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9840" y="38088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uni  esempi tratti dalle esperienze di Assolombar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0:55:26Z</dcterms:created>
  <dc:creator>Utente</dc:creator>
  <dc:description/>
  <dc:language>en-US</dc:language>
  <cp:lastModifiedBy>CASTROVILLI ENRICO</cp:lastModifiedBy>
  <cp:lastPrinted>2004-03-10T16:12:21Z</cp:lastPrinted>
  <dcterms:modified xsi:type="dcterms:W3CDTF">2004-10-28T17:56:26Z</dcterms:modified>
  <cp:revision>89</cp:revision>
  <dc:subject/>
  <dc:title>Nessun titolo diapositiva</dc:title>
</cp:coreProperties>
</file>