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869-101A-4B9A-9769-448E752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13F-8063-4D36-9064-46D56CF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DC4-57ED-44DD-A644-BF4F4B08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D67-80F2-4A49-8195-3A804E45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A37-489B-432D-9065-64EC5126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880-BCF4-405B-BDEC-F14B133E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D6B-8118-4EAA-B899-FDB695D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8D2-6EAE-46FC-8BFC-38D09E1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259-C837-427F-8F43-F895B4E2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901-8A5C-45CD-924B-A7E6A2D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5FE-F848-44CF-80A6-BEF857EE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8FA-0055-4112-8A04-8898C9E7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7A51-9AA4-4909-B07E-B3046B17C06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5 Novembre 2004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ERZA CONFERENZA NAZIONALE AEEE- ITALIA</a:t>
            </a:r>
            <a:br>
              <a:rPr sz="3200"/>
            </a:b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ECONOMIA DELLA CONOSCENZA, CONOSCENZA DELL’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21000" y="5037120"/>
            <a:ext cx="4672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ari restituiti: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316836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Ritiene i suoi studenti abbastanza informati sui fatti importanti per il cambiamento del sistema econom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1332000" y="-458640"/>
          <a:ext cx="11736360" cy="628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332000" y="-458640"/>
                    <a:ext cx="1173636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15920"/>
            <a:ext cx="827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 Qual è la fonte principale che i suoi studenti consultano per informarsi sull’econom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1260360" y="476280"/>
          <a:ext cx="12025080" cy="644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360" y="476280"/>
                    <a:ext cx="1202508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260280"/>
            <a:ext cx="872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. Qual è l’uso didattico migliore delle informazioni di cui sono in possesso i vostri studenti? 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1405080" y="1012680"/>
          <a:ext cx="11233440" cy="6016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05080" y="1012680"/>
                    <a:ext cx="1123344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20" y="4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Qual è il suo stile didattico preferito per trasformare le informazioni in conoscenze e competen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1620720" y="-27000"/>
          <a:ext cx="12168000" cy="65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620720" y="-27000"/>
                    <a:ext cx="1216800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80" y="-27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Qual è lo strumento didattico che ritiene più efficace per l’acquisizione di conoscen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973080" y="981000"/>
          <a:ext cx="10874160" cy="582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73080" y="981000"/>
                    <a:ext cx="1087416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028000" y="5877000"/>
            <a:ext cx="1015920" cy="94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Nell’attuale contesto, quali sono le competenze indispensabili perché gli allievi acquisiscano la consapevolezza di sé e sappiano interagire positivamente con la realt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1960560"/>
          <a:ext cx="8388360" cy="449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960560"/>
                    <a:ext cx="838836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ZA CONFERENZA NAZIONALE AEEE- ITAL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Novembr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9:50:07Z</dcterms:created>
  <dc:creator>x</dc:creator>
  <dc:description/>
  <dc:language>en-US</dc:language>
  <cp:lastModifiedBy>Università Luigi Bocconi </cp:lastModifiedBy>
  <dcterms:modified xsi:type="dcterms:W3CDTF">2004-11-05T13:15:43Z</dcterms:modified>
  <cp:revision>5</cp:revision>
  <dc:subject/>
  <dc:title>Diapositiva 1</dc:title>
</cp:coreProperties>
</file>