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7DA-2D3F-4003-9687-37B674B9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D62-192C-4551-A524-DDFFD83A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60D2-C827-4359-A775-1A573A37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CEF9-F784-4621-93D2-5627554D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FF8-843C-422B-A1AD-89D1CB5D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D91A-FA90-44A1-AAC9-807BA334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6573-550A-4C96-AD31-4C89B95D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F4C6-0408-4690-A73E-C01108BD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950-AEEE-4381-87BA-406EE048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A0F-392D-4305-B6AB-CA51F4B0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5BA-A5F7-4544-B734-CE561920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107-960B-4268-BB43-11904365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bf8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novembre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Giorgio Vittadi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E928-AB11-4E09-BB9D-FE274218D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0120" y="6324480"/>
            <a:ext cx="838080" cy="32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bf8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838080"/>
            <a:ext cx="7696440" cy="20916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CONVEG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"Economia della conoscenza, conoscenza dell'economi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464832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à Bocc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ano, 5 novembr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0068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bf8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914400"/>
            <a:ext cx="769644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Le quattro politiche individuate dalla Commissione europ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ocalizzare gli investimenti su programmi mirati ad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incrementare l’efficienza, la qualità e le possibilità di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accesso all’istr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Aumentare gli investimenti pubblici in maniera focalizz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viluppare sistemi di misurazione/monitoraggio che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permettano il raggiungimento della massima efficienza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degli investi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Incoraggiare un maggiore tasso di investimenti privati come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complemento della spesa pubb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bf8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838080"/>
            <a:ext cx="7696440" cy="55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Tahoma"/>
              </a:rPr>
              <a:t>Desiderio: natura profonda 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Tahoma"/>
              </a:rPr>
              <a:t>del capitale 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37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376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Il capitale umano di una persona non è riducibile 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all’incremento della sua capacità lavora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Esso è innanzitutto desiderio di verità, di giustizia, 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di bell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Tale desiderio è il motore che ha reso miriadi di 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persone protagoniste della creatività sociale, 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dello sviluppo, del progresso attraverso il 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contributo gratuito all’edificazione del bene 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com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bf8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7621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etodi di misur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752480"/>
            <a:ext cx="830556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Metodo retrospettivo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costo economico effettivo dell’investimento in HC (spese in istruzione, sanitarie, per la mobilità, per la formazione professiona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Metodo prospettico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ritorno dell’investimento in HC sulla base della stima monetaria del valore (attuale) dei redditi fut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ahoma"/>
              </a:rPr>
              <a:t>Problemi: parzialità, risultati solo in termini aggreg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bf8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2120" y="7621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etodi di misur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1752480"/>
            <a:ext cx="7467480" cy="39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it-IT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Metodo proposto dal prof. Dagum</a:t>
            </a:r>
            <a:r>
              <a:rPr b="0" lang="it-IT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: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*    distribuzione di HC per famiglia tenendo conto dei metodi 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preceden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*    relazione con distribuzione, reddito, ricchezza, deb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*    nuove prospettive di studio delle grandezze econom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*   In un modello econometrico Dagum mette in connessione la  distribuzione del  HC definito come variabile statistica con reddito, debiti, ricchez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bf8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1600200"/>
            <a:ext cx="28195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960" rIns="75960" tIns="37800" bIns="37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differenti significati per LV in lett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1523880"/>
            <a:ext cx="4678560" cy="146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960" rIns="75960" tIns="37800" bIns="37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Tradizionalmente : Hypothetical construct non direttamente osservabili ma con implicazioni con variabili osservabili. Cause latenti. Effetti latenti    “vere LV” (Joreskog Golderger, 197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3200400"/>
            <a:ext cx="4678200" cy="87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960" rIns="75960" tIns="37800" bIns="37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Unobservable composite variables (Wold, 198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743200"/>
            <a:ext cx="2797200" cy="14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960" rIns="75960" tIns="37800" bIns="37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n un Path Diagram: Indicatori formativi causano LV esogene che causano LV endogene che cusano indicatori rifless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57200"/>
            <a:ext cx="91440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960" rIns="75960" tIns="37800" bIns="37800" anchor="t">
            <a:noAutofit/>
          </a:bodyPr>
          <a:p>
            <a:pPr marL="379440" indent="-379440" algn="ctr">
              <a:lnSpc>
                <a:spcPct val="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 algn="ctr">
              <a:lnSpc>
                <a:spcPts val="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HC: Definizione statist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-379440" algn="ctr">
              <a:lnSpc>
                <a:spcPts val="0"/>
              </a:lnSpc>
              <a:spcBef>
                <a:spcPts val="1874"/>
              </a:spcBef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me variabile  latente  (LV)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419720"/>
            <a:ext cx="838188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960" rIns="75960" tIns="37800" bIns="37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HC: Multidimensional Construct:    LV compromesso  Unobservable Composite Variable rispetto agli indicatori formativi (concernenti l’investimento in H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Tradizionale LV  rispetto agli indicatori riflessivi concernenti il ritorno monetario : reddito nel ciclo vi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(Dagum,Vittadini 1996; Vittadini, Dagum, Lovaglio 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2286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25909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bf8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16000" y="294840"/>
            <a:ext cx="96775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ath Diagram per la LV Bidimensionale  HC  </a:t>
            </a:r>
            <a:br>
              <a:rPr sz="3200"/>
            </a:b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101" name="2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767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bf8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228600"/>
            <a:ext cx="784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odelli di Misur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62120" y="914400"/>
          <a:ext cx="7696080" cy="522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696080" cy="5227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bf8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fr-FR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4720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HC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0.2826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HC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fr-FR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=25.44)            (15.22)            (R</a:t>
            </a:r>
            <a:r>
              <a:rPr b="0" lang="fr-F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48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fr-FR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1507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HC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0.4119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T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0.5322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FIN +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277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EA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2.78)                    (-30.43)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40.85)             (36.43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it-IT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669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HC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6890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HC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0.57)             (R</a:t>
            </a:r>
            <a:r>
              <a:rPr b="0" lang="en-GB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47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33520"/>
            <a:ext cx="777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it-IT" sz="3200" spc="-1" strike="noStrike">
                <a:solidFill>
                  <a:srgbClr val="cc3300"/>
                </a:solidFill>
                <a:latin typeface="Times New Roman"/>
              </a:rPr>
              <a:t>Modello Struttu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bf8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5424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-6480" y="0"/>
          <a:ext cx="4662720" cy="37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4662720" cy="37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0718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114800" y="2209680"/>
          <a:ext cx="5029200" cy="402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2209680"/>
                    <a:ext cx="5029200" cy="40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8458200" y="6324480"/>
            <a:ext cx="457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26000" y="295200"/>
            <a:ext cx="3811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it-IT" sz="29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it-IT" sz="3200" spc="-1" strike="noStrike">
                <a:solidFill>
                  <a:srgbClr val="cc3300"/>
                </a:solidFill>
                <a:latin typeface="Times New Roman"/>
              </a:rPr>
              <a:t>Distribuzione del HC per famiglie in It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bf8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81080" y="1219320"/>
            <a:ext cx="5181840" cy="5814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Il Capitale Umano (H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362320"/>
            <a:ext cx="7620120" cy="40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  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Ammontare di capacità intellettuale, innata e acquisita mediante investimento in educazione e lavoro ascrivibile all’uomo, </a:t>
            </a:r>
            <a:br>
              <a:rPr sz="2000"/>
            </a:br>
            <a:r>
              <a:rPr b="0" lang="it-IT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quale fattore determinante per l’incremento di produzione e produttività. Il valore monetario del flusso di reddito acquisito nel ciclo vitale grazie all’investimento in educazione e formazione sul lavoro e’ considerata una proxy del HC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it-IT" sz="2000" spc="-1" strike="noStrike">
                <a:solidFill>
                  <a:srgbClr val="003366"/>
                </a:solidFill>
                <a:latin typeface="Tahoma"/>
              </a:rPr>
              <a:t>Il Dipartimento Economico delle Nazioni Unite (1953) definì l’investimento in HC, l’investimento compiuto per accrescere la produttività della forza lavo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bf8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2057400"/>
            <a:ext cx="731520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Istruzione scolastica e universi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Investimento sul sistema di formazione professionale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(generica e specifica) in azienda e fuori dall’azi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Investimento in informazioni sul sistema economico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(prezzi, salari, cambi, andamento titoli e obbligazio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Investimento in sal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8380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Investimento in H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bf8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733920" y="5410080"/>
            <a:ext cx="1981080" cy="824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Impatto territor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dei distret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3808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Impatto di H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3200400"/>
            <a:ext cx="1600200" cy="1295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H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3200400"/>
            <a:ext cx="1600200" cy="1295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Impatto sul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produzion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1295280"/>
            <a:ext cx="198108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Capacità di rice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2362320"/>
            <a:ext cx="1981080" cy="824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Capacità di utiliz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della tecnolo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4038480"/>
            <a:ext cx="2286000" cy="106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Aumento di creatività, di capacità di lavoro e inno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1981080"/>
            <a:ext cx="243864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Sviluppo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tecnolog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3962520"/>
            <a:ext cx="137160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Educ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62120" y="1523520"/>
            <a:ext cx="289548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523880" y="2666520"/>
            <a:ext cx="213372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4419720"/>
            <a:ext cx="2438640" cy="160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715000" y="4419720"/>
            <a:ext cx="205740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7009920" y="2362320"/>
            <a:ext cx="129564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447920"/>
            <a:ext cx="9144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867280" y="3733560"/>
            <a:ext cx="152424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2666880"/>
            <a:ext cx="1981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3657600"/>
            <a:ext cx="53352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4343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bf8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7621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Impatto di H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752480"/>
            <a:ext cx="777240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Nei paesi dell’OCSE la crescita di HC spiega circa i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2/3 della crescita del redd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Alcuni da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Un aumento di un anno di istruzione formale per i giovani di sesso maschile aumenta il tasso di crescita di un Paese dell’1,1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L’incremento di reddito ottenuto da un Paese che riuscisse ad aumentare di un anno la durata media del processo di istruzione formale sarebbe pari, in 25 anni, a quasi il 32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bf8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90720" y="6858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Disuguaglianze sociali e H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1828800"/>
            <a:ext cx="7391160" cy="22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2362320"/>
          <a:ext cx="784872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784872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219320" y="13716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Linee di età-guadagni ipotetiche in occupazioni che differiscono nell’ammontare di training richies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5867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Investimento come politica di redistrib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bf8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1981080"/>
            <a:ext cx="83059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380880"/>
          <a:ext cx="78487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0880"/>
                    <a:ext cx="78487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bf8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1447920"/>
            <a:ext cx="830592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457200"/>
          <a:ext cx="8076960" cy="574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807696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bf8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81080" y="1219320"/>
            <a:ext cx="5181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2362320"/>
            <a:ext cx="76201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62120" y="838080"/>
          <a:ext cx="7677000" cy="473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38080"/>
                    <a:ext cx="767700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0:40:31Z</dcterms:created>
  <dc:creator>monica</dc:creator>
  <dc:description/>
  <dc:language>en-US</dc:language>
  <cp:lastModifiedBy>CASTROVILLI ENRICO</cp:lastModifiedBy>
  <dcterms:modified xsi:type="dcterms:W3CDTF">2004-10-11T17:36:19Z</dcterms:modified>
  <cp:revision>258</cp:revision>
  <dc:subject/>
  <dc:title>Presentazione di PowerPoint</dc:title>
</cp:coreProperties>
</file>